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01A-620F-4D4A-830D-C2915383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213-B18E-425B-A715-A98F0E0A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8B6-6368-415B-89FF-03A54A68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5F3-6748-4836-B26E-13A66571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251-8C83-43CD-82B9-CFDF245B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DD6-D168-44F3-8D0F-6D4E316C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956-9C24-48E6-97C2-1F1C9725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AAD-ECA7-461A-A6FE-8AA78CBF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175-8C1A-48C0-B73C-211C60F3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3FA-1277-4A8A-ABDF-DAFE528D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A46-8547-4AE9-9AC7-0B14A145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B5D-2990-4FE3-82FF-98086540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B884-275D-473E-B2CC-385362152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mo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35640" y="1838160"/>
            <a:ext cx="8751240" cy="4436280"/>
            <a:chOff x="35640" y="1838160"/>
            <a:chExt cx="8751240" cy="4436280"/>
          </a:xfrm>
        </p:grpSpPr>
        <p:sp>
          <p:nvSpPr>
            <p:cNvPr id="1124" name=""/>
            <p:cNvSpPr/>
            <p:nvPr/>
          </p:nvSpPr>
          <p:spPr>
            <a:xfrm>
              <a:off x="2051280" y="183816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35640" y="1893600"/>
              <a:ext cx="8751240" cy="4380840"/>
              <a:chOff x="35640" y="1893600"/>
              <a:chExt cx="8751240" cy="4380840"/>
            </a:xfrm>
          </p:grpSpPr>
          <p:sp>
            <p:nvSpPr>
              <p:cNvPr id="1126" name=""/>
              <p:cNvSpPr/>
              <p:nvPr/>
            </p:nvSpPr>
            <p:spPr>
              <a:xfrm>
                <a:off x="35640" y="3146400"/>
                <a:ext cx="1698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max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(T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125</a:t>
                </a:r>
                <a:r>
                  <a:rPr b="0" lang="pl-PL" sz="18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35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7" name=""/>
              <p:cNvGrpSpPr/>
              <p:nvPr/>
            </p:nvGrpSpPr>
            <p:grpSpPr>
              <a:xfrm>
                <a:off x="1080360" y="1893600"/>
                <a:ext cx="7706520" cy="4380840"/>
                <a:chOff x="1080360" y="1893600"/>
                <a:chExt cx="7706520" cy="4380840"/>
              </a:xfrm>
            </p:grpSpPr>
            <p:sp>
              <p:nvSpPr>
                <p:cNvPr id="1128" name=""/>
                <p:cNvSpPr/>
                <p:nvPr/>
              </p:nvSpPr>
              <p:spPr>
                <a:xfrm flipV="1">
                  <a:off x="1828800" y="1969200"/>
                  <a:ext cx="0" cy="358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600200" y="5322600"/>
                  <a:ext cx="632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858720" y="4754160"/>
                  <a:ext cx="1055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[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828800" y="25794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38480" y="2579400"/>
                  <a:ext cx="2743200" cy="274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808440" y="54748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6200640" y="5398560"/>
                  <a:ext cx="1095120" cy="87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2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(=T</a:t>
                  </a:r>
                  <a:r>
                    <a:rPr b="0" lang="pl-PL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jmax</a:t>
                  </a: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V="1">
                  <a:off x="5105520" y="3645720"/>
                  <a:ext cx="0" cy="1676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1828800" y="364608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038480" y="2579400"/>
                  <a:ext cx="0" cy="281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080360" y="2139480"/>
                  <a:ext cx="75528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 ma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=79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39" name=""/>
                    <p:cNvSpPr txBox="1"/>
                    <p:nvPr/>
                  </p:nvSpPr>
                  <p:spPr>
                    <a:xfrm>
                      <a:off x="5442120" y="1893600"/>
                      <a:ext cx="2547720" cy="66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ΔT</m:t>
                              </m:r>
                            </m:num>
                            <m:den>
                              <m:r>
                                <m:t xml:space="preserve">ΔP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,2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W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0" name=""/>
                <p:cNvSpPr/>
                <p:nvPr/>
              </p:nvSpPr>
              <p:spPr>
                <a:xfrm flipH="1">
                  <a:off x="4495680" y="2350800"/>
                  <a:ext cx="91440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41" name=""/>
                    <p:cNvSpPr txBox="1"/>
                    <p:nvPr/>
                  </p:nvSpPr>
                  <p:spPr>
                    <a:xfrm>
                      <a:off x="5378400" y="3092040"/>
                      <a:ext cx="3408480" cy="668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max</m:t>
                              </m:r>
                            </m:sub>
                          </m:sSub>
                          <m:r>
                            <m:t xml:space="preserve">(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-12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,2</m:t>
                              </m:r>
                            </m:den>
                          </m:f>
                          <m:r>
                            <m:t xml:space="preserve">≈</m:t>
                          </m:r>
                          <m:r>
                            <m:rPr>
                              <m:lit/>
                              <m:nor/>
                            </m:rPr>
                            <m:t xml:space="preserve">35W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2" name=""/>
                <p:cNvSpPr/>
                <p:nvPr/>
              </p:nvSpPr>
              <p:spPr>
                <a:xfrm>
                  <a:off x="4873680" y="5490720"/>
                  <a:ext cx="637920" cy="45972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zależność mocy strat operacyjnego wzmacniacza mocy OPA501od temperatury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4" name=""/>
          <p:cNvGraphicFramePr/>
          <p:nvPr/>
        </p:nvGraphicFramePr>
        <p:xfrm>
          <a:off x="569880" y="2685960"/>
          <a:ext cx="7740720" cy="38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2685960"/>
                    <a:ext cx="774072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"/>
          <p:cNvGraphicFramePr/>
          <p:nvPr/>
        </p:nvGraphicFramePr>
        <p:xfrm>
          <a:off x="314280" y="447840"/>
          <a:ext cx="4907160" cy="17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280" y="447840"/>
                    <a:ext cx="490716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8" name=""/>
          <p:cNvSpPr/>
          <p:nvPr/>
        </p:nvSpPr>
        <p:spPr>
          <a:xfrm>
            <a:off x="1081800" y="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Model elektrotermiczny wzmacniacza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585080" y="649116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ebiegi temperatur (=napięć) w modelu elektrotermicznym OPA5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649120" y="965160"/>
            <a:ext cx="14014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1=1,03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2=5,0u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1=79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2=1408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5360" y="2289240"/>
            <a:ext cx="12081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m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57280" y="1951200"/>
            <a:ext cx="123840" cy="26352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71840" y="1144440"/>
            <a:ext cx="153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hj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2,2K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22800" y="2219400"/>
            <a:ext cx="3189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emperatura obudowy Tc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V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 flipV="1">
            <a:off x="4800240" y="1744560"/>
            <a:ext cx="297000" cy="3096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y pracy tranzystorów mo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332840" y="2130480"/>
            <a:ext cx="23472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54720" y="3019320"/>
            <a:ext cx="54792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755640" y="5286240"/>
            <a:ext cx="3444840" cy="538200"/>
            <a:chOff x="755640" y="5286240"/>
            <a:chExt cx="3444840" cy="538200"/>
          </a:xfrm>
        </p:grpSpPr>
        <p:sp>
          <p:nvSpPr>
            <p:cNvPr id="1160" name=""/>
            <p:cNvSpPr/>
            <p:nvPr/>
          </p:nvSpPr>
          <p:spPr>
            <a:xfrm>
              <a:off x="1170000" y="5288040"/>
              <a:ext cx="2627280" cy="26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70000" y="5556240"/>
              <a:ext cx="2627280" cy="268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587680" y="5556240"/>
              <a:ext cx="1612800" cy="268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55640" y="5286240"/>
              <a:ext cx="1617840" cy="270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157800" y="2130480"/>
            <a:ext cx="39384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80040" y="3019320"/>
            <a:ext cx="54936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2165400" y="4191120"/>
            <a:ext cx="1879560" cy="676080"/>
            <a:chOff x="2165400" y="4191120"/>
            <a:chExt cx="1879560" cy="676080"/>
          </a:xfrm>
        </p:grpSpPr>
        <p:sp>
          <p:nvSpPr>
            <p:cNvPr id="1167" name=""/>
            <p:cNvSpPr/>
            <p:nvPr/>
          </p:nvSpPr>
          <p:spPr>
            <a:xfrm>
              <a:off x="2392200" y="419256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392200" y="453060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65480" y="4529160"/>
              <a:ext cx="87948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165400" y="4191120"/>
              <a:ext cx="88272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4964040" y="1992240"/>
            <a:ext cx="862200" cy="1179720"/>
            <a:chOff x="4964040" y="1992240"/>
            <a:chExt cx="862200" cy="1179720"/>
          </a:xfrm>
        </p:grpSpPr>
        <p:sp>
          <p:nvSpPr>
            <p:cNvPr id="1172" name=""/>
            <p:cNvSpPr/>
            <p:nvPr/>
          </p:nvSpPr>
          <p:spPr>
            <a:xfrm>
              <a:off x="53942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9640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964040" y="2620800"/>
              <a:ext cx="432000" cy="55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396040" y="1992240"/>
              <a:ext cx="430200" cy="55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1773360" y="1238400"/>
            <a:ext cx="1440" cy="21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20720" y="3224160"/>
            <a:ext cx="320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1695600" y="1238400"/>
            <a:ext cx="7776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773360" y="1238400"/>
            <a:ext cx="7920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 flipV="1">
            <a:off x="4669920" y="3155760"/>
            <a:ext cx="1573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669920" y="3224160"/>
            <a:ext cx="1573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793880" y="1649520"/>
            <a:ext cx="2131920" cy="1574640"/>
          </a:xfrm>
          <a:custGeom>
            <a:avLst/>
            <a:gdLst/>
            <a:ahLst/>
            <a:rect l="l" t="t" r="r" b="b"/>
            <a:pathLst>
              <a:path w="1343" h="1984">
                <a:moveTo>
                  <a:pt x="1343" y="0"/>
                </a:moveTo>
                <a:lnTo>
                  <a:pt x="1193" y="1121"/>
                </a:lnTo>
                <a:lnTo>
                  <a:pt x="1106" y="1590"/>
                </a:lnTo>
                <a:lnTo>
                  <a:pt x="1063" y="1712"/>
                </a:lnTo>
                <a:lnTo>
                  <a:pt x="976" y="1836"/>
                </a:lnTo>
                <a:lnTo>
                  <a:pt x="758" y="1984"/>
                </a:lnTo>
                <a:lnTo>
                  <a:pt x="0" y="19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3457440" y="3241800"/>
            <a:ext cx="392400" cy="752400"/>
            <a:chOff x="3457440" y="3241800"/>
            <a:chExt cx="392400" cy="752400"/>
          </a:xfrm>
        </p:grpSpPr>
        <p:sp>
          <p:nvSpPr>
            <p:cNvPr id="1184" name=""/>
            <p:cNvSpPr/>
            <p:nvPr/>
          </p:nvSpPr>
          <p:spPr>
            <a:xfrm>
              <a:off x="3502080" y="3241800"/>
              <a:ext cx="299880" cy="374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502080" y="3619440"/>
              <a:ext cx="299880" cy="37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457440" y="3618000"/>
              <a:ext cx="18252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64080" y="3241800"/>
              <a:ext cx="18576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809880" y="2128680"/>
            <a:ext cx="454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652920" y="2608200"/>
            <a:ext cx="469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497400" y="3017880"/>
            <a:ext cx="485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809880" y="2128680"/>
            <a:ext cx="1800" cy="410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497400" y="3017880"/>
            <a:ext cx="1440" cy="116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652920" y="2608200"/>
            <a:ext cx="1440" cy="157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3027240" y="3223800"/>
            <a:ext cx="180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2478240" y="3223800"/>
            <a:ext cx="144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15960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6550200" y="301752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4224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9849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8453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984920" y="349740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57675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576756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8492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98492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15960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15960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15960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6862320" y="33606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6862320" y="34290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59600" y="3224160"/>
            <a:ext cx="390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6471720" y="31557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6159600" y="315576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159600" y="322416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647172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17696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95960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17696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17696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1769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 flipV="1">
            <a:off x="788184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788184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332840" y="30178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567560" y="3017880"/>
            <a:ext cx="180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254720" y="3292560"/>
            <a:ext cx="3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567560" y="322416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567560" y="3292560"/>
            <a:ext cx="795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 flipV="1">
            <a:off x="725436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7254360" y="32925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294160" y="356544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74800" y="329076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8656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411680" y="30862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46884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314760" y="30178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592520" y="1649520"/>
            <a:ext cx="1800" cy="136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451476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9252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 flipV="1">
            <a:off x="8272080" y="2949480"/>
            <a:ext cx="7956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8272080" y="3017880"/>
            <a:ext cx="795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352000" y="301788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69200" y="15271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980360" y="114300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512240" y="3429000"/>
            <a:ext cx="3967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 flipV="1">
            <a:off x="2400480" y="6098760"/>
            <a:ext cx="7776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478240" y="6098760"/>
            <a:ext cx="792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557440" y="616572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269520" y="24382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964600" y="27432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361960" y="281952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4008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8764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613320" y="2575080"/>
            <a:ext cx="7920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421960" y="4444920"/>
            <a:ext cx="265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A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B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C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361800" y="4784760"/>
                <a:ext cx="387540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Q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p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(idealizow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361800" y="394344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 flipV="1">
            <a:off x="2147760" y="1390320"/>
            <a:ext cx="1800" cy="888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1569960" y="2457360"/>
            <a:ext cx="534960" cy="532080"/>
            <a:chOff x="1569960" y="2457360"/>
            <a:chExt cx="534960" cy="532080"/>
          </a:xfrm>
        </p:grpSpPr>
        <p:sp>
          <p:nvSpPr>
            <p:cNvPr id="1260" name=""/>
            <p:cNvSpPr/>
            <p:nvPr/>
          </p:nvSpPr>
          <p:spPr>
            <a:xfrm>
              <a:off x="1569960" y="2457360"/>
              <a:ext cx="534960" cy="53208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1770120" y="2588760"/>
              <a:ext cx="1440" cy="266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1770120" y="2479320"/>
              <a:ext cx="173160" cy="176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70120" y="2789280"/>
              <a:ext cx="177840" cy="177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569960" y="2722680"/>
              <a:ext cx="2001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1903320" y="2855520"/>
              <a:ext cx="1800" cy="66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1836360" y="2922480"/>
              <a:ext cx="6660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1969920" y="227952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969920" y="299088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147760" y="3168720"/>
            <a:ext cx="1800" cy="355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058840" y="1568520"/>
            <a:ext cx="177840" cy="3571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25400" y="176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02880" y="190512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03240" y="2724120"/>
            <a:ext cx="711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147760" y="3346560"/>
            <a:ext cx="180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058840" y="3524400"/>
            <a:ext cx="177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103480" y="1346040"/>
            <a:ext cx="90360" cy="9072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125360" y="2678040"/>
            <a:ext cx="90720" cy="9216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170000" y="1390680"/>
            <a:ext cx="1440" cy="133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170000" y="1390680"/>
            <a:ext cx="18669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081080" y="1746360"/>
            <a:ext cx="179280" cy="355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1432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0324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547200" y="2724120"/>
            <a:ext cx="26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325600" y="1587600"/>
            <a:ext cx="266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125880" y="1231920"/>
            <a:ext cx="23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03720" y="137160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886280" y="3228840"/>
            <a:ext cx="332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4886280" y="1199880"/>
            <a:ext cx="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886280" y="1496880"/>
            <a:ext cx="251136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305120" y="320976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900680" y="109548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20360" y="3193920"/>
            <a:ext cx="581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886280" y="3092400"/>
            <a:ext cx="0" cy="13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114960" y="2297160"/>
            <a:ext cx="0" cy="2128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377120" y="310212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019560" y="2022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478760" y="199872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886280" y="3711600"/>
            <a:ext cx="123660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138720" y="3716280"/>
            <a:ext cx="12369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294160" y="37767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4788000" y="2349360"/>
            <a:ext cx="0" cy="89064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H="1">
            <a:off x="4836600" y="233856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338720" y="260352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265720" y="110484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567560" y="2741760"/>
            <a:ext cx="117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911840" y="2363760"/>
            <a:ext cx="1187280" cy="852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73920" y="2276640"/>
            <a:ext cx="871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456240" y="376380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188200" y="30160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491080" y="93492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7c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656400" y="1978200"/>
            <a:ext cx="12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2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146480" y="4786200"/>
            <a:ext cx="4695840" cy="150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unkcie pracy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152800" y="1955880"/>
            <a:ext cx="0" cy="2840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2671920" y="14842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748240" y="174960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2665440" y="2341080"/>
            <a:ext cx="0" cy="1089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758680" y="2668680"/>
            <a:ext cx="52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85760" y="3179880"/>
            <a:ext cx="3709800" cy="15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307800" y="965160"/>
          <a:ext cx="561672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965160"/>
                    <a:ext cx="561672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2" name=""/>
          <p:cNvSpPr/>
          <p:nvPr/>
        </p:nvSpPr>
        <p:spPr>
          <a:xfrm>
            <a:off x="4031640" y="3419640"/>
            <a:ext cx="4862520" cy="1008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oretyczna, nie do uzysk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sprawność jest znacznie mniej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0% - 1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41640" y="5856120"/>
            <a:ext cx="8081280" cy="68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y mocy wyjściowej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50W moc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tranzystora musi być większa od 300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jeśli sprawność wynosi ok. 1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056600" y="1541520"/>
            <a:ext cx="69105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a= moc zasilania - moc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2973240" y="2325600"/>
                <a:ext cx="24148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t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6" name=""/>
          <p:cNvSpPr/>
          <p:nvPr/>
        </p:nvSpPr>
        <p:spPr>
          <a:xfrm>
            <a:off x="486720" y="3978360"/>
            <a:ext cx="8489520" cy="77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c strat jest największa przy braku wysterowania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080360" y="401760"/>
            <a:ext cx="70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rezystancyjnym wzmacniaczu mocy klasy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1620720" y="2014560"/>
            <a:ext cx="1800" cy="9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1009800" y="3141720"/>
            <a:ext cx="563400" cy="561960"/>
            <a:chOff x="1009800" y="3141720"/>
            <a:chExt cx="563400" cy="561960"/>
          </a:xfrm>
        </p:grpSpPr>
        <p:sp>
          <p:nvSpPr>
            <p:cNvPr id="1331" name=""/>
            <p:cNvSpPr/>
            <p:nvPr/>
          </p:nvSpPr>
          <p:spPr>
            <a:xfrm>
              <a:off x="1009800" y="3141720"/>
              <a:ext cx="563400" cy="5619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1220760" y="3281400"/>
              <a:ext cx="1440" cy="28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1220760" y="3165480"/>
              <a:ext cx="182520" cy="18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220760" y="3492360"/>
              <a:ext cx="187200" cy="18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009800" y="3422520"/>
              <a:ext cx="210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1362240" y="3561840"/>
              <a:ext cx="144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1290240" y="3633840"/>
              <a:ext cx="71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8" name=""/>
          <p:cNvSpPr/>
          <p:nvPr/>
        </p:nvSpPr>
        <p:spPr>
          <a:xfrm flipV="1">
            <a:off x="1432080" y="2953800"/>
            <a:ext cx="18864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432080" y="3705120"/>
            <a:ext cx="188640" cy="189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1620720" y="3893760"/>
            <a:ext cx="1800" cy="37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20720" y="4081320"/>
            <a:ext cx="180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25680" y="4268880"/>
            <a:ext cx="189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573200" y="196848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961920" y="2014560"/>
            <a:ext cx="19735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909880" y="2422440"/>
            <a:ext cx="355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071160" y="184644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246840" y="1994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98520" y="3424320"/>
            <a:ext cx="657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1525680" y="2108160"/>
            <a:ext cx="189000" cy="752400"/>
            <a:chOff x="1525680" y="2108160"/>
            <a:chExt cx="189000" cy="752400"/>
          </a:xfrm>
        </p:grpSpPr>
        <p:sp>
          <p:nvSpPr>
            <p:cNvPr id="1350" name=""/>
            <p:cNvSpPr/>
            <p:nvPr/>
          </p:nvSpPr>
          <p:spPr>
            <a:xfrm>
              <a:off x="1525680" y="2108160"/>
              <a:ext cx="1890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25680" y="2297160"/>
              <a:ext cx="1890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25680" y="2484360"/>
              <a:ext cx="189000" cy="187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25680" y="2671920"/>
              <a:ext cx="189000" cy="188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1901880" y="2203560"/>
            <a:ext cx="187200" cy="563400"/>
            <a:chOff x="1901880" y="2203560"/>
            <a:chExt cx="187200" cy="563400"/>
          </a:xfrm>
        </p:grpSpPr>
        <p:sp>
          <p:nvSpPr>
            <p:cNvPr id="1355" name=""/>
            <p:cNvSpPr/>
            <p:nvPr/>
          </p:nvSpPr>
          <p:spPr>
            <a:xfrm>
              <a:off x="1901880" y="22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901880" y="239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901880" y="2577960"/>
              <a:ext cx="1872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1432080" y="2108160"/>
            <a:ext cx="187200" cy="75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995480" y="2203560"/>
            <a:ext cx="189000" cy="5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808280" y="2108160"/>
            <a:ext cx="1440" cy="75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60680" y="1752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: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995480" y="2107800"/>
            <a:ext cx="144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995480" y="2108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747880" y="2108160"/>
            <a:ext cx="1800" cy="84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1995480" y="2954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995480" y="2766960"/>
            <a:ext cx="1440" cy="18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654280" y="2297160"/>
            <a:ext cx="187200" cy="374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1120" y="2484360"/>
            <a:ext cx="844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 flipV="1">
            <a:off x="1337760" y="23907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1337760" y="24843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0200" y="2203560"/>
            <a:ext cx="984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’  = n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489480" y="4343400"/>
            <a:ext cx="502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3489480" y="1398600"/>
            <a:ext cx="0" cy="29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25840" y="2227320"/>
            <a:ext cx="4640400" cy="212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062200" y="4348080"/>
            <a:ext cx="63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76600" y="130644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012720" y="4357800"/>
            <a:ext cx="1014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=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89480" y="420696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967360" y="3300480"/>
            <a:ext cx="0" cy="2239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156520" y="432900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946840" y="3000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32640" y="305100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489480" y="4826160"/>
            <a:ext cx="24476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004080" y="4830840"/>
            <a:ext cx="21272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356000" y="48783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3390840" y="3389040"/>
            <a:ext cx="0" cy="96516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3490920" y="33544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941560" y="371808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775040" y="1768320"/>
            <a:ext cx="3662640" cy="2054520"/>
          </a:xfrm>
          <a:custGeom>
            <a:avLst/>
            <a:gdLst/>
            <a:ahLst/>
            <a:rect l="l" t="t" r="r" b="b"/>
            <a:pathLst>
              <a:path w="2307" h="1294">
                <a:moveTo>
                  <a:pt x="0" y="0"/>
                </a:moveTo>
                <a:cubicBezTo>
                  <a:pt x="23" y="64"/>
                  <a:pt x="66" y="267"/>
                  <a:pt x="137" y="392"/>
                </a:cubicBezTo>
                <a:cubicBezTo>
                  <a:pt x="208" y="517"/>
                  <a:pt x="332" y="654"/>
                  <a:pt x="429" y="748"/>
                </a:cubicBezTo>
                <a:cubicBezTo>
                  <a:pt x="526" y="842"/>
                  <a:pt x="601" y="899"/>
                  <a:pt x="717" y="959"/>
                </a:cubicBezTo>
                <a:cubicBezTo>
                  <a:pt x="833" y="1019"/>
                  <a:pt x="961" y="1064"/>
                  <a:pt x="1123" y="1107"/>
                </a:cubicBezTo>
                <a:cubicBezTo>
                  <a:pt x="1285" y="1150"/>
                  <a:pt x="1494" y="1185"/>
                  <a:pt x="1691" y="1216"/>
                </a:cubicBezTo>
                <a:cubicBezTo>
                  <a:pt x="1888" y="1247"/>
                  <a:pt x="2179" y="1278"/>
                  <a:pt x="2307" y="12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356520" y="311292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514680" y="3379680"/>
            <a:ext cx="2413080" cy="951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951520" y="3292560"/>
            <a:ext cx="874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804000" y="492768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8386560" y="390672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066680" y="487692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6" name=""/>
          <p:cNvSpPr/>
          <p:nvPr/>
        </p:nvSpPr>
        <p:spPr>
          <a:xfrm>
            <a:off x="706320" y="5504040"/>
            <a:ext cx="7429680" cy="117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1386000" y="5208480"/>
            <a:ext cx="5603760" cy="519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8" name=""/>
          <p:cNvGraphicFramePr/>
          <p:nvPr/>
        </p:nvGraphicFramePr>
        <p:xfrm>
          <a:off x="1600200" y="1752480"/>
          <a:ext cx="6356520" cy="38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35652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31400" y="1041480"/>
            <a:ext cx="883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schematy ideow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eciwsobn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macniaczy mocy klasy 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formatorowego                    i            z    tranzystorami komplementar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beztransformator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334160" y="5122800"/>
            <a:ext cx="7039440" cy="108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18720" y="2757600"/>
            <a:ext cx="8490240" cy="1942200"/>
            <a:chOff x="18720" y="2757600"/>
            <a:chExt cx="8490240" cy="1942200"/>
          </a:xfrm>
        </p:grpSpPr>
        <p:sp>
          <p:nvSpPr>
            <p:cNvPr id="1405" name=""/>
            <p:cNvSpPr/>
            <p:nvPr/>
          </p:nvSpPr>
          <p:spPr>
            <a:xfrm>
              <a:off x="6670800" y="368316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165000" y="282888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203960" y="3656160"/>
              <a:ext cx="257400" cy="8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051680" y="3699000"/>
              <a:ext cx="15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59560" y="369900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283880" y="3392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91320" y="3475080"/>
              <a:ext cx="1440" cy="41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56520" y="3029040"/>
              <a:ext cx="466560" cy="4093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356520" y="323388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6249960" y="323388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541920" y="323388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541920" y="31212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541920" y="309060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539040" y="329076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6691320" y="299088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91320" y="33735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591240" y="335592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29400" y="330372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94560" y="2819520"/>
              <a:ext cx="127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445000" y="3668760"/>
              <a:ext cx="61920" cy="572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973760" y="39988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w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691320" y="2819160"/>
              <a:ext cx="1440" cy="18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5432040" y="3819600"/>
              <a:ext cx="81360" cy="279360"/>
              <a:chOff x="5432040" y="3819600"/>
              <a:chExt cx="81360" cy="2793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5432040" y="3819600"/>
                <a:ext cx="81360" cy="104760"/>
                <a:chOff x="5432040" y="3819600"/>
                <a:chExt cx="81360" cy="104760"/>
              </a:xfrm>
            </p:grpSpPr>
            <p:sp>
              <p:nvSpPr>
                <p:cNvPr id="1429" name=""/>
                <p:cNvSpPr/>
                <p:nvPr/>
              </p:nvSpPr>
              <p:spPr>
                <a:xfrm flipH="1">
                  <a:off x="5432040" y="3819600"/>
                  <a:ext cx="414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5473800" y="3819600"/>
                  <a:ext cx="396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1" name=""/>
              <p:cNvSpPr/>
              <p:nvPr/>
            </p:nvSpPr>
            <p:spPr>
              <a:xfrm>
                <a:off x="5473800" y="3821040"/>
                <a:ext cx="144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2" name=""/>
            <p:cNvSpPr/>
            <p:nvPr/>
          </p:nvSpPr>
          <p:spPr>
            <a:xfrm>
              <a:off x="6356520" y="3963960"/>
              <a:ext cx="466560" cy="4096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356520" y="416880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6249960" y="416880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6541920" y="4054320"/>
              <a:ext cx="18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6541920" y="41670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41920" y="422928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6539040" y="402732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691320" y="431172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6691320" y="39081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6585120" y="407628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6589800" y="401796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700680" y="4583160"/>
              <a:ext cx="127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691320" y="4398840"/>
              <a:ext cx="1440" cy="18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691320" y="384192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686640" y="3699000"/>
              <a:ext cx="51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18480" y="308448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96932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204400" y="313704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793116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970760" y="31590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193440" y="440064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823160" y="400860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97400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209440" y="406548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793584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975440" y="40878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7974000" y="3371400"/>
              <a:ext cx="1440" cy="63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7975440" y="4301640"/>
              <a:ext cx="180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972560" y="2817720"/>
              <a:ext cx="1440" cy="27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548480" y="3699000"/>
              <a:ext cx="42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953480" y="36799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6027840" y="3233880"/>
              <a:ext cx="24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27840" y="3235320"/>
              <a:ext cx="144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27840" y="4168800"/>
              <a:ext cx="285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5503680" y="3697200"/>
              <a:ext cx="523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04080" y="3678120"/>
              <a:ext cx="3780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5400720" y="4387680"/>
              <a:ext cx="144360" cy="198720"/>
              <a:chOff x="5400720" y="4387680"/>
              <a:chExt cx="144360" cy="198720"/>
            </a:xfrm>
          </p:grpSpPr>
          <p:sp>
            <p:nvSpPr>
              <p:cNvPr id="1469" name=""/>
              <p:cNvSpPr/>
              <p:nvPr/>
            </p:nvSpPr>
            <p:spPr>
              <a:xfrm>
                <a:off x="5443560" y="438768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473800" y="4448160"/>
                <a:ext cx="1440" cy="13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400720" y="4581360"/>
                <a:ext cx="144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>
              <a:off x="5473800" y="4035600"/>
              <a:ext cx="1440" cy="28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408880" y="3700440"/>
              <a:ext cx="180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40840" y="384012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969320" y="3700440"/>
              <a:ext cx="442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7002360" y="3908520"/>
              <a:ext cx="7668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153920" y="395136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4686480" y="3463560"/>
              <a:ext cx="0" cy="48276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480560" y="300024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0" name=""/>
            <p:cNvGrpSpPr/>
            <p:nvPr/>
          </p:nvGrpSpPr>
          <p:grpSpPr>
            <a:xfrm>
              <a:off x="18720" y="2757600"/>
              <a:ext cx="4524840" cy="1942200"/>
              <a:chOff x="18720" y="2757600"/>
              <a:chExt cx="4524840" cy="1942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913680" y="4486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935000" y="3657600"/>
                <a:ext cx="38160" cy="381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389960" y="2803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2468520" y="3517920"/>
                <a:ext cx="295200" cy="309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481560" y="34131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481560" y="39513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986280" y="338436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989520" y="392256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457880" y="3565440"/>
                <a:ext cx="856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048200" y="3413160"/>
                <a:ext cx="452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500720" y="3413160"/>
                <a:ext cx="1440" cy="15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051440" y="3952800"/>
                <a:ext cx="447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498920" y="3821040"/>
                <a:ext cx="18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046400" y="3413160"/>
                <a:ext cx="454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142880" y="359568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711240" y="2814480"/>
                <a:ext cx="79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'=n  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167000" y="27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955880" y="3449520"/>
                <a:ext cx="1440" cy="412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620720" y="300348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620720" y="3208320"/>
                <a:ext cx="185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1514520" y="3208320"/>
                <a:ext cx="138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806480" y="320832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806480" y="30956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1806480" y="306504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803240" y="3265560"/>
                <a:ext cx="15264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1955880" y="296532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955880" y="33480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852560" y="3325680"/>
                <a:ext cx="82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884240" y="327024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1023840" y="3208320"/>
                <a:ext cx="542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655200" y="3674880"/>
                <a:ext cx="1295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955880" y="2793960"/>
                <a:ext cx="1276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963720" y="318132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076040" y="3359160"/>
                <a:ext cx="38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 flipV="1">
                <a:off x="2642760" y="3637080"/>
                <a:ext cx="5076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440440" y="3246480"/>
                <a:ext cx="29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E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1955880" y="2793960"/>
                <a:ext cx="1440" cy="18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227400" y="279540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9" name=""/>
              <p:cNvGrpSpPr/>
              <p:nvPr/>
            </p:nvGrpSpPr>
            <p:grpSpPr>
              <a:xfrm>
                <a:off x="952560" y="3290760"/>
                <a:ext cx="80640" cy="279360"/>
                <a:chOff x="952560" y="3290760"/>
                <a:chExt cx="80640" cy="279360"/>
              </a:xfrm>
            </p:grpSpPr>
            <p:grpSp>
              <p:nvGrpSpPr>
                <p:cNvPr id="1520" name=""/>
                <p:cNvGrpSpPr/>
                <p:nvPr/>
              </p:nvGrpSpPr>
              <p:grpSpPr>
                <a:xfrm>
                  <a:off x="952560" y="3290760"/>
                  <a:ext cx="80640" cy="104760"/>
                  <a:chOff x="952560" y="3290760"/>
                  <a:chExt cx="80640" cy="10476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 flipH="1">
                    <a:off x="952560" y="329076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993600" y="329076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3" name=""/>
                <p:cNvSpPr/>
                <p:nvPr/>
              </p:nvSpPr>
              <p:spPr>
                <a:xfrm>
                  <a:off x="993600" y="329220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1620720" y="393840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20720" y="4143240"/>
                <a:ext cx="185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>
                <a:off x="1514520" y="4143240"/>
                <a:ext cx="138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806480" y="402876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1806480" y="41414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806480" y="420372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1803240" y="4002120"/>
                <a:ext cx="1526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955880" y="428616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1955880" y="38826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1838160" y="4021200"/>
                <a:ext cx="82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1874880" y="402120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H="1">
                <a:off x="1023840" y="4143240"/>
                <a:ext cx="542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55880" y="4557600"/>
                <a:ext cx="1276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963720" y="411300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071360" y="3851280"/>
                <a:ext cx="419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>
                <a:off x="2642760" y="3674880"/>
                <a:ext cx="5076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955880" y="4373640"/>
                <a:ext cx="1440" cy="18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3227400" y="367488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2" name=""/>
              <p:cNvGrpSpPr/>
              <p:nvPr/>
            </p:nvGrpSpPr>
            <p:grpSpPr>
              <a:xfrm>
                <a:off x="952560" y="3781440"/>
                <a:ext cx="80640" cy="279360"/>
                <a:chOff x="952560" y="3781440"/>
                <a:chExt cx="80640" cy="279360"/>
              </a:xfrm>
            </p:grpSpPr>
            <p:grpSp>
              <p:nvGrpSpPr>
                <p:cNvPr id="1543" name=""/>
                <p:cNvGrpSpPr/>
                <p:nvPr/>
              </p:nvGrpSpPr>
              <p:grpSpPr>
                <a:xfrm>
                  <a:off x="952560" y="3781440"/>
                  <a:ext cx="80640" cy="104760"/>
                  <a:chOff x="952560" y="3781440"/>
                  <a:chExt cx="80640" cy="104760"/>
                </a:xfrm>
              </p:grpSpPr>
              <p:sp>
                <p:nvSpPr>
                  <p:cNvPr id="1544" name=""/>
                  <p:cNvSpPr/>
                  <p:nvPr/>
                </p:nvSpPr>
                <p:spPr>
                  <a:xfrm flipH="1">
                    <a:off x="952560" y="378144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993600" y="378144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6" name=""/>
                <p:cNvSpPr/>
                <p:nvPr/>
              </p:nvSpPr>
              <p:spPr>
                <a:xfrm>
                  <a:off x="993600" y="378288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7" name=""/>
              <p:cNvSpPr/>
              <p:nvPr/>
            </p:nvSpPr>
            <p:spPr>
              <a:xfrm>
                <a:off x="1955880" y="3816360"/>
                <a:ext cx="1440" cy="13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1951200" y="3673440"/>
                <a:ext cx="51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760840" y="3673440"/>
                <a:ext cx="50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2541240" y="3674880"/>
                <a:ext cx="150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3225960" y="3362400"/>
                <a:ext cx="291960" cy="628560"/>
                <a:chOff x="3225960" y="3362400"/>
                <a:chExt cx="291960" cy="62856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3225960" y="341316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3422520" y="341316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V="1">
                  <a:off x="3368520" y="336240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5" name=""/>
              <p:cNvSpPr/>
              <p:nvPr/>
            </p:nvSpPr>
            <p:spPr>
              <a:xfrm>
                <a:off x="3270240" y="31240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279600" y="40528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7" name=""/>
              <p:cNvGrpSpPr/>
              <p:nvPr/>
            </p:nvGrpSpPr>
            <p:grpSpPr>
              <a:xfrm>
                <a:off x="361800" y="3341520"/>
                <a:ext cx="291960" cy="628560"/>
                <a:chOff x="361800" y="3341520"/>
                <a:chExt cx="291960" cy="628560"/>
              </a:xfrm>
            </p:grpSpPr>
            <p:sp>
              <p:nvSpPr>
                <p:cNvPr id="1558" name=""/>
                <p:cNvSpPr/>
                <p:nvPr/>
              </p:nvSpPr>
              <p:spPr>
                <a:xfrm>
                  <a:off x="361800" y="339228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558360" y="339228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V="1">
                  <a:off x="504360" y="334152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1" name=""/>
              <p:cNvSpPr/>
              <p:nvPr/>
            </p:nvSpPr>
            <p:spPr>
              <a:xfrm>
                <a:off x="606600" y="319068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V="1">
                <a:off x="598320" y="3948120"/>
                <a:ext cx="35892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966960" y="364788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>
                <a:off x="46080" y="319716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 flipV="1">
                <a:off x="25200" y="391932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V="1">
                <a:off x="174600" y="3290400"/>
                <a:ext cx="0" cy="73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8720" y="2776320"/>
                <a:ext cx="509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 tranzystorami komplementarnym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zasada działani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04240" y="1182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553080" y="157320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6487920" y="1573200"/>
            <a:ext cx="132120" cy="133200"/>
            <a:chOff x="6487920" y="1573200"/>
            <a:chExt cx="132120" cy="133200"/>
          </a:xfrm>
        </p:grpSpPr>
        <p:sp>
          <p:nvSpPr>
            <p:cNvPr id="1572" name=""/>
            <p:cNvSpPr/>
            <p:nvPr/>
          </p:nvSpPr>
          <p:spPr>
            <a:xfrm>
              <a:off x="6553440" y="1573200"/>
              <a:ext cx="66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6487920" y="1573200"/>
              <a:ext cx="651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8537040" y="2776680"/>
            <a:ext cx="18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8724600" y="280512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 flipV="1">
            <a:off x="85615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8561520" y="327816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189400" y="3278160"/>
            <a:ext cx="3500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407200" y="32637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695640" y="145908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597360" y="3297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248080" y="326376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632360" y="32688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977080" y="498636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124760" y="498960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6993000" y="5055840"/>
            <a:ext cx="131760" cy="132120"/>
            <a:chOff x="6993000" y="5055840"/>
            <a:chExt cx="131760" cy="132120"/>
          </a:xfrm>
        </p:grpSpPr>
        <p:sp>
          <p:nvSpPr>
            <p:cNvPr id="1587" name=""/>
            <p:cNvSpPr/>
            <p:nvPr/>
          </p:nvSpPr>
          <p:spPr>
            <a:xfrm flipH="1">
              <a:off x="6993000" y="512280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 flipV="1">
              <a:off x="6993000" y="505584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9" name=""/>
          <p:cNvSpPr/>
          <p:nvPr/>
        </p:nvSpPr>
        <p:spPr>
          <a:xfrm flipV="1">
            <a:off x="5978520" y="505584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978520" y="512280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88120" y="515448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86120" y="51832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667200" y="51292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270160" y="273204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901800" y="1366920"/>
            <a:ext cx="1440" cy="19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901800" y="3278160"/>
            <a:ext cx="290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901800" y="136692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836280" y="136692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3673080" y="3279600"/>
            <a:ext cx="133560" cy="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 flipV="1">
            <a:off x="3673080" y="3211200"/>
            <a:ext cx="1335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123920" y="2019240"/>
            <a:ext cx="26640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020600" y="2585880"/>
            <a:ext cx="266400" cy="13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922320" y="312120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578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57827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1243080" y="1952280"/>
            <a:ext cx="72684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1157400" y="2518920"/>
            <a:ext cx="1519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1022400" y="3057120"/>
            <a:ext cx="250992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906480" y="1827360"/>
            <a:ext cx="263520" cy="1450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021680" y="1265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882240" y="312120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168640" y="1162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3611520" y="327816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704880" y="3279600"/>
            <a:ext cx="2906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 flipV="1">
            <a:off x="3544560" y="506088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3611520" y="506088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063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06320" y="328140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122640" y="44071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225960" y="383868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325680" y="33037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4116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41169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2543040" y="4540320"/>
            <a:ext cx="727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1836720" y="3973680"/>
            <a:ext cx="1517760" cy="64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H="1">
            <a:off x="981000" y="3435480"/>
            <a:ext cx="250848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3343320" y="3279600"/>
            <a:ext cx="263520" cy="1452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751920" y="497664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26160" y="339264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907920" y="1768320"/>
            <a:ext cx="1314720" cy="148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131840" y="202392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22640" y="32608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322800" y="44974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149480" y="2041560"/>
            <a:ext cx="711504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348000" y="4516560"/>
            <a:ext cx="488628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553080" y="3071880"/>
            <a:ext cx="1800" cy="15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315480" y="2041560"/>
            <a:ext cx="4788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 flipV="1">
            <a:off x="677664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165640" y="4070160"/>
            <a:ext cx="4824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22691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22691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562932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462440" y="4070160"/>
            <a:ext cx="48276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792648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313320" y="204156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597996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1360" y="407052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446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4467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128000" y="3278160"/>
            <a:ext cx="350640" cy="1096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710480" y="3254400"/>
            <a:ext cx="1440" cy="9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124760" y="3276720"/>
            <a:ext cx="1440" cy="18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977080" y="3276720"/>
            <a:ext cx="1440" cy="18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977080" y="5121360"/>
            <a:ext cx="1150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795720" y="1573200"/>
            <a:ext cx="3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233440" y="3290760"/>
            <a:ext cx="1111320" cy="1235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801800" y="1528920"/>
            <a:ext cx="6379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825560" y="4782960"/>
            <a:ext cx="63792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201760" y="3241800"/>
            <a:ext cx="74880" cy="745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920" y="4162320"/>
            <a:ext cx="2547360" cy="3373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oczynkowy punkt pracy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H="1">
            <a:off x="1495440" y="3352680"/>
            <a:ext cx="681120" cy="730440"/>
          </a:xfrm>
          <a:prstGeom prst="line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680" y="1703520"/>
            <a:ext cx="8526240" cy="418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mocy jest układem elektronicznym, który dostarcza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ciążenia wymaganej mocy wyjściowej przy możliwie duż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awności i małych zniekształceniach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gadnieniem podstawowym jest uzyskanie dużej spraw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żnym problemem jest chłodzenie element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ż układ na ogół wydziela duże ilości ciepł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4" name=""/>
          <p:cNvGraphicFramePr/>
          <p:nvPr/>
        </p:nvGraphicFramePr>
        <p:xfrm>
          <a:off x="384120" y="1236600"/>
          <a:ext cx="7815240" cy="38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36600"/>
                    <a:ext cx="781524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365480" y="5504040"/>
            <a:ext cx="6553800" cy="99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8" name=""/>
          <p:cNvGraphicFramePr/>
          <p:nvPr/>
        </p:nvGraphicFramePr>
        <p:xfrm>
          <a:off x="668160" y="1509840"/>
          <a:ext cx="6531120" cy="48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509840"/>
                    <a:ext cx="6531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>
            <a:off x="1319040" y="1398600"/>
            <a:ext cx="1800" cy="465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192320" y="5927760"/>
            <a:ext cx="654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 flipV="1">
            <a:off x="7610040" y="580248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7610040" y="5927760"/>
            <a:ext cx="125640" cy="12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192320" y="1398600"/>
            <a:ext cx="12672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319040" y="139860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319040" y="1774800"/>
            <a:ext cx="452916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848200" y="1774800"/>
            <a:ext cx="1800" cy="415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1318680" y="1774800"/>
            <a:ext cx="4529160" cy="415296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1319040" y="2404800"/>
            <a:ext cx="4529160" cy="3522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470560" y="1901880"/>
            <a:ext cx="1440" cy="402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19040" y="5029200"/>
            <a:ext cx="4529160" cy="898560"/>
          </a:xfrm>
          <a:custGeom>
            <a:avLst/>
            <a:gdLst/>
            <a:ahLst/>
            <a:rect l="l" t="t" r="r" b="b"/>
            <a:pathLst>
              <a:path w="2853" h="566">
                <a:moveTo>
                  <a:pt x="0" y="566"/>
                </a:moveTo>
                <a:lnTo>
                  <a:pt x="396" y="249"/>
                </a:lnTo>
                <a:lnTo>
                  <a:pt x="621" y="144"/>
                </a:lnTo>
                <a:lnTo>
                  <a:pt x="792" y="91"/>
                </a:lnTo>
                <a:lnTo>
                  <a:pt x="1089" y="36"/>
                </a:lnTo>
                <a:lnTo>
                  <a:pt x="1347" y="12"/>
                </a:lnTo>
                <a:lnTo>
                  <a:pt x="1813" y="0"/>
                </a:lnTo>
                <a:lnTo>
                  <a:pt x="1981" y="12"/>
                </a:lnTo>
                <a:lnTo>
                  <a:pt x="2341" y="44"/>
                </a:lnTo>
                <a:lnTo>
                  <a:pt x="2613" y="96"/>
                </a:lnTo>
                <a:lnTo>
                  <a:pt x="2741" y="144"/>
                </a:lnTo>
                <a:lnTo>
                  <a:pt x="2853" y="188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319040" y="3460680"/>
            <a:ext cx="4542120" cy="2467080"/>
          </a:xfrm>
          <a:custGeom>
            <a:avLst/>
            <a:gdLst/>
            <a:ahLst/>
            <a:rect l="l" t="t" r="r" b="b"/>
            <a:pathLst>
              <a:path w="2861" h="1554">
                <a:moveTo>
                  <a:pt x="0" y="1554"/>
                </a:moveTo>
                <a:lnTo>
                  <a:pt x="634" y="1475"/>
                </a:lnTo>
                <a:lnTo>
                  <a:pt x="1197" y="1348"/>
                </a:lnTo>
                <a:lnTo>
                  <a:pt x="1577" y="1240"/>
                </a:lnTo>
                <a:lnTo>
                  <a:pt x="1585" y="1237"/>
                </a:lnTo>
                <a:lnTo>
                  <a:pt x="1805" y="1124"/>
                </a:lnTo>
                <a:lnTo>
                  <a:pt x="1973" y="1020"/>
                </a:lnTo>
                <a:lnTo>
                  <a:pt x="2205" y="832"/>
                </a:lnTo>
                <a:lnTo>
                  <a:pt x="2509" y="520"/>
                </a:lnTo>
                <a:lnTo>
                  <a:pt x="2697" y="276"/>
                </a:lnTo>
                <a:lnTo>
                  <a:pt x="2861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464000" y="4795920"/>
            <a:ext cx="1800" cy="113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1319040" y="5048280"/>
            <a:ext cx="314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904000" y="5954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355880" y="6080040"/>
            <a:ext cx="90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m/U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79960" y="183528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487520" y="14302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626120" y="45705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696680" y="476892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ma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289400" y="5925960"/>
            <a:ext cx="39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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018480" y="1647720"/>
            <a:ext cx="1069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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765600" y="3311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142520" y="3814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255560" y="4014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007240" y="414036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30000" y="50734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100920" y="52722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898160" y="39416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418720" y="5925960"/>
            <a:ext cx="12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513400" y="6153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charakterystyki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4" name=""/>
          <p:cNvGrpSpPr/>
          <p:nvPr/>
        </p:nvGrpSpPr>
        <p:grpSpPr>
          <a:xfrm>
            <a:off x="685800" y="2016000"/>
            <a:ext cx="7752600" cy="3551400"/>
            <a:chOff x="685800" y="2016000"/>
            <a:chExt cx="7752600" cy="3551400"/>
          </a:xfrm>
        </p:grpSpPr>
        <p:sp>
          <p:nvSpPr>
            <p:cNvPr id="1695" name=""/>
            <p:cNvSpPr/>
            <p:nvPr/>
          </p:nvSpPr>
          <p:spPr>
            <a:xfrm>
              <a:off x="5394240" y="2093760"/>
              <a:ext cx="1800" cy="347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394240" y="3774960"/>
              <a:ext cx="2467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528120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39424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481120" y="2090880"/>
              <a:ext cx="1800" cy="168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481120" y="3771720"/>
              <a:ext cx="168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2370240" y="2090880"/>
              <a:ext cx="1108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481120" y="2090880"/>
              <a:ext cx="1126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 flipV="1">
              <a:off x="3938760" y="3660840"/>
              <a:ext cx="22536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938760" y="3771720"/>
              <a:ext cx="22536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3147840" y="2028960"/>
              <a:ext cx="111240" cy="1008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828800" y="2203560"/>
              <a:ext cx="13428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8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8117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798480" y="3661920"/>
              <a:ext cx="2353680" cy="1794240"/>
              <a:chOff x="798480" y="3661920"/>
              <a:chExt cx="2353680" cy="1794240"/>
            </a:xfrm>
          </p:grpSpPr>
          <p:sp>
            <p:nvSpPr>
              <p:cNvPr id="1708" name=""/>
              <p:cNvSpPr/>
              <p:nvPr/>
            </p:nvSpPr>
            <p:spPr>
              <a:xfrm flipV="1">
                <a:off x="2479680" y="3774960"/>
                <a:ext cx="1440" cy="16812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798480" y="3774960"/>
                <a:ext cx="1681200" cy="1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247968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 flipV="1">
                <a:off x="236664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98480" y="3774960"/>
                <a:ext cx="223920" cy="1112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798480" y="3661920"/>
                <a:ext cx="223920" cy="1126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1695600" y="4446720"/>
                <a:ext cx="110880" cy="10094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806480" y="3774960"/>
                <a:ext cx="1345680" cy="156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6" name=""/>
            <p:cNvSpPr/>
            <p:nvPr/>
          </p:nvSpPr>
          <p:spPr>
            <a:xfrm>
              <a:off x="1918080" y="201600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815200" y="515448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85800" y="32497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713040" y="39211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0" name=""/>
            <p:cNvGrpSpPr/>
            <p:nvPr/>
          </p:nvGrpSpPr>
          <p:grpSpPr>
            <a:xfrm>
              <a:off x="5934240" y="3661920"/>
              <a:ext cx="2466720" cy="224280"/>
              <a:chOff x="5934240" y="3661920"/>
              <a:chExt cx="2466720" cy="224280"/>
            </a:xfrm>
          </p:grpSpPr>
          <p:sp>
            <p:nvSpPr>
              <p:cNvPr id="1721" name=""/>
              <p:cNvSpPr/>
              <p:nvPr/>
            </p:nvSpPr>
            <p:spPr>
              <a:xfrm>
                <a:off x="5934240" y="3774960"/>
                <a:ext cx="2466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 flipV="1">
                <a:off x="8175600" y="3661920"/>
                <a:ext cx="22536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8175600" y="3774960"/>
                <a:ext cx="22536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5794560" y="2660760"/>
              <a:ext cx="901080" cy="1118880"/>
              <a:chOff x="5794560" y="2660760"/>
              <a:chExt cx="901080" cy="1118880"/>
            </a:xfrm>
          </p:grpSpPr>
          <p:sp>
            <p:nvSpPr>
              <p:cNvPr id="1725" name=""/>
              <p:cNvSpPr/>
              <p:nvPr/>
            </p:nvSpPr>
            <p:spPr>
              <a:xfrm>
                <a:off x="6429240" y="3639960"/>
                <a:ext cx="2664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794560" y="2660760"/>
                <a:ext cx="37728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 flipV="1">
                <a:off x="6162840" y="2792520"/>
                <a:ext cx="263520" cy="91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8" name=""/>
            <p:cNvSpPr/>
            <p:nvPr/>
          </p:nvSpPr>
          <p:spPr>
            <a:xfrm>
              <a:off x="5261040" y="3639960"/>
              <a:ext cx="266400" cy="1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786280" y="266076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V="1">
              <a:off x="5529240" y="2792520"/>
              <a:ext cx="264960" cy="91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6935760" y="3771720"/>
              <a:ext cx="901080" cy="1118880"/>
              <a:chOff x="6935760" y="3771720"/>
              <a:chExt cx="901080" cy="1118880"/>
            </a:xfrm>
          </p:grpSpPr>
          <p:sp>
            <p:nvSpPr>
              <p:cNvPr id="1732" name=""/>
              <p:cNvSpPr/>
              <p:nvPr/>
            </p:nvSpPr>
            <p:spPr>
              <a:xfrm>
                <a:off x="7570800" y="3771720"/>
                <a:ext cx="266040" cy="13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935760" y="4526280"/>
                <a:ext cx="37764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7305840" y="3841560"/>
                <a:ext cx="263520" cy="917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5" name=""/>
            <p:cNvSpPr/>
            <p:nvPr/>
          </p:nvSpPr>
          <p:spPr>
            <a:xfrm>
              <a:off x="6404040" y="37717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929280" y="452628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672240" y="3841560"/>
              <a:ext cx="263520" cy="9176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8" name=""/>
            <p:cNvGrpSpPr/>
            <p:nvPr/>
          </p:nvGrpSpPr>
          <p:grpSpPr>
            <a:xfrm>
              <a:off x="5645880" y="2016000"/>
              <a:ext cx="537480" cy="510480"/>
              <a:chOff x="5645880" y="2016000"/>
              <a:chExt cx="537480" cy="510480"/>
            </a:xfrm>
          </p:grpSpPr>
          <p:sp>
            <p:nvSpPr>
              <p:cNvPr id="1739" name=""/>
              <p:cNvSpPr/>
              <p:nvPr/>
            </p:nvSpPr>
            <p:spPr>
              <a:xfrm>
                <a:off x="5645880" y="201600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745240" y="2114640"/>
                <a:ext cx="4381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8153280" y="3154320"/>
              <a:ext cx="285120" cy="454680"/>
              <a:chOff x="8153280" y="3154320"/>
              <a:chExt cx="285120" cy="454680"/>
            </a:xfrm>
          </p:grpSpPr>
          <p:sp>
            <p:nvSpPr>
              <p:cNvPr id="1742" name=""/>
              <p:cNvSpPr/>
              <p:nvPr/>
            </p:nvSpPr>
            <p:spPr>
              <a:xfrm>
                <a:off x="8153280" y="3154320"/>
                <a:ext cx="2354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341560" y="319716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4" name=""/>
            <p:cNvSpPr/>
            <p:nvPr/>
          </p:nvSpPr>
          <p:spPr>
            <a:xfrm flipH="1">
              <a:off x="3208320" y="2646360"/>
              <a:ext cx="2774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1765080" y="4887720"/>
              <a:ext cx="5352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617400" y="1376280"/>
          <a:ext cx="806148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76280"/>
                    <a:ext cx="8061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436680" y="1758960"/>
            <a:ext cx="8716680" cy="258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uniknąć występowania zniekształceń skrośnych sygnał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elementach wzmacniających stosowana jest wstępna polaryzac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odująca przepływ niewielkie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u spoczynk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wyniku czego charakterystyka przejściowa zostaje zlinearyzow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25600" y="5715000"/>
            <a:ext cx="83617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 spoczynko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zystorów mocy jest zależny od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konieczna jest jego stabi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727280" y="4927680"/>
            <a:ext cx="623412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2044800" y="2778120"/>
            <a:ext cx="4527360" cy="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531080" y="15048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028680" y="4295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30440" y="3214440"/>
            <a:ext cx="1202760" cy="80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10037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10037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1929960" y="2128680"/>
            <a:ext cx="220680" cy="157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890000" y="5783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28240" y="3017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859040" y="3700440"/>
            <a:ext cx="1205640" cy="80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1641600" y="4017960"/>
            <a:ext cx="218880" cy="1581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3" name=""/>
          <p:cNvGrpSpPr/>
          <p:nvPr/>
        </p:nvGrpSpPr>
        <p:grpSpPr>
          <a:xfrm>
            <a:off x="5881320" y="1859040"/>
            <a:ext cx="195120" cy="269280"/>
            <a:chOff x="5881320" y="1859040"/>
            <a:chExt cx="195120" cy="269280"/>
          </a:xfrm>
        </p:grpSpPr>
        <p:sp>
          <p:nvSpPr>
            <p:cNvPr id="1764" name=""/>
            <p:cNvSpPr/>
            <p:nvPr/>
          </p:nvSpPr>
          <p:spPr>
            <a:xfrm>
              <a:off x="5979960" y="1859040"/>
              <a:ext cx="964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5881320" y="1859040"/>
              <a:ext cx="982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8548560" y="3086280"/>
            <a:ext cx="322920" cy="383400"/>
            <a:chOff x="8548560" y="3086280"/>
            <a:chExt cx="322920" cy="383400"/>
          </a:xfrm>
        </p:grpSpPr>
        <p:sp>
          <p:nvSpPr>
            <p:cNvPr id="1767" name=""/>
            <p:cNvSpPr/>
            <p:nvPr/>
          </p:nvSpPr>
          <p:spPr>
            <a:xfrm>
              <a:off x="8548560" y="308628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796240" y="3149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8589600" y="3716280"/>
            <a:ext cx="194760" cy="269280"/>
            <a:chOff x="8589600" y="3716280"/>
            <a:chExt cx="194760" cy="269280"/>
          </a:xfrm>
        </p:grpSpPr>
        <p:sp>
          <p:nvSpPr>
            <p:cNvPr id="1770" name=""/>
            <p:cNvSpPr/>
            <p:nvPr/>
          </p:nvSpPr>
          <p:spPr>
            <a:xfrm flipH="1" flipV="1">
              <a:off x="8589600" y="3716280"/>
              <a:ext cx="1947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8589600" y="3849480"/>
              <a:ext cx="19476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2" name=""/>
          <p:cNvSpPr/>
          <p:nvPr/>
        </p:nvSpPr>
        <p:spPr>
          <a:xfrm>
            <a:off x="7618320" y="3813120"/>
            <a:ext cx="1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334040" y="3792600"/>
            <a:ext cx="2880" cy="13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059160" y="39718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086000" y="39052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08520" y="39132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7" name=""/>
          <p:cNvGrpSpPr/>
          <p:nvPr/>
        </p:nvGrpSpPr>
        <p:grpSpPr>
          <a:xfrm>
            <a:off x="5967360" y="2781360"/>
            <a:ext cx="828000" cy="1113480"/>
            <a:chOff x="5967360" y="2781360"/>
            <a:chExt cx="828000" cy="1113480"/>
          </a:xfrm>
        </p:grpSpPr>
        <p:sp>
          <p:nvSpPr>
            <p:cNvPr id="1778" name=""/>
            <p:cNvSpPr/>
            <p:nvPr/>
          </p:nvSpPr>
          <p:spPr>
            <a:xfrm>
              <a:off x="5967360" y="2781360"/>
              <a:ext cx="449280" cy="32652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1"/>
                  </a:lnTo>
                  <a:lnTo>
                    <a:pt x="85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101" y="17"/>
                  </a:lnTo>
                  <a:lnTo>
                    <a:pt x="104" y="17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3" y="21"/>
                  </a:lnTo>
                  <a:lnTo>
                    <a:pt x="115" y="22"/>
                  </a:lnTo>
                  <a:lnTo>
                    <a:pt x="118" y="22"/>
                  </a:lnTo>
                  <a:lnTo>
                    <a:pt x="119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8"/>
                  </a:lnTo>
                  <a:lnTo>
                    <a:pt x="133" y="29"/>
                  </a:lnTo>
                  <a:lnTo>
                    <a:pt x="135" y="30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1" y="33"/>
                  </a:lnTo>
                  <a:lnTo>
                    <a:pt x="142" y="36"/>
                  </a:lnTo>
                  <a:lnTo>
                    <a:pt x="144" y="36"/>
                  </a:lnTo>
                  <a:lnTo>
                    <a:pt x="145" y="38"/>
                  </a:lnTo>
                  <a:lnTo>
                    <a:pt x="148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4" y="41"/>
                  </a:lnTo>
                  <a:lnTo>
                    <a:pt x="157" y="43"/>
                  </a:lnTo>
                  <a:lnTo>
                    <a:pt x="159" y="43"/>
                  </a:lnTo>
                  <a:lnTo>
                    <a:pt x="159" y="45"/>
                  </a:lnTo>
                  <a:lnTo>
                    <a:pt x="161" y="45"/>
                  </a:lnTo>
                  <a:lnTo>
                    <a:pt x="164" y="46"/>
                  </a:lnTo>
                  <a:lnTo>
                    <a:pt x="166" y="48"/>
                  </a:lnTo>
                  <a:lnTo>
                    <a:pt x="168" y="50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9" y="56"/>
                  </a:lnTo>
                  <a:lnTo>
                    <a:pt x="180" y="59"/>
                  </a:lnTo>
                  <a:lnTo>
                    <a:pt x="182" y="59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7" y="63"/>
                  </a:lnTo>
                  <a:lnTo>
                    <a:pt x="189" y="63"/>
                  </a:lnTo>
                  <a:lnTo>
                    <a:pt x="190" y="66"/>
                  </a:lnTo>
                  <a:lnTo>
                    <a:pt x="193" y="67"/>
                  </a:lnTo>
                  <a:lnTo>
                    <a:pt x="195" y="68"/>
                  </a:lnTo>
                  <a:lnTo>
                    <a:pt x="196" y="70"/>
                  </a:lnTo>
                  <a:lnTo>
                    <a:pt x="197" y="73"/>
                  </a:lnTo>
                  <a:lnTo>
                    <a:pt x="200" y="74"/>
                  </a:lnTo>
                  <a:lnTo>
                    <a:pt x="201" y="76"/>
                  </a:lnTo>
                  <a:lnTo>
                    <a:pt x="203" y="77"/>
                  </a:lnTo>
                  <a:lnTo>
                    <a:pt x="205" y="77"/>
                  </a:lnTo>
                  <a:lnTo>
                    <a:pt x="206" y="80"/>
                  </a:lnTo>
                  <a:lnTo>
                    <a:pt x="209" y="81"/>
                  </a:lnTo>
                  <a:lnTo>
                    <a:pt x="209" y="83"/>
                  </a:lnTo>
                  <a:lnTo>
                    <a:pt x="211" y="84"/>
                  </a:lnTo>
                  <a:lnTo>
                    <a:pt x="211" y="87"/>
                  </a:lnTo>
                  <a:lnTo>
                    <a:pt x="213" y="88"/>
                  </a:lnTo>
                  <a:lnTo>
                    <a:pt x="215" y="90"/>
                  </a:lnTo>
                  <a:lnTo>
                    <a:pt x="217" y="90"/>
                  </a:lnTo>
                  <a:lnTo>
                    <a:pt x="218" y="92"/>
                  </a:lnTo>
                  <a:lnTo>
                    <a:pt x="220" y="93"/>
                  </a:lnTo>
                  <a:lnTo>
                    <a:pt x="221" y="96"/>
                  </a:lnTo>
                  <a:lnTo>
                    <a:pt x="224" y="97"/>
                  </a:lnTo>
                  <a:lnTo>
                    <a:pt x="225" y="99"/>
                  </a:lnTo>
                  <a:lnTo>
                    <a:pt x="227" y="100"/>
                  </a:lnTo>
                  <a:lnTo>
                    <a:pt x="228" y="103"/>
                  </a:lnTo>
                  <a:lnTo>
                    <a:pt x="231" y="104"/>
                  </a:lnTo>
                  <a:lnTo>
                    <a:pt x="231" y="106"/>
                  </a:lnTo>
                  <a:lnTo>
                    <a:pt x="232" y="108"/>
                  </a:lnTo>
                  <a:lnTo>
                    <a:pt x="234" y="108"/>
                  </a:lnTo>
                  <a:lnTo>
                    <a:pt x="235" y="111"/>
                  </a:lnTo>
                  <a:lnTo>
                    <a:pt x="238" y="112"/>
                  </a:lnTo>
                  <a:lnTo>
                    <a:pt x="239" y="114"/>
                  </a:lnTo>
                  <a:lnTo>
                    <a:pt x="241" y="115"/>
                  </a:lnTo>
                  <a:lnTo>
                    <a:pt x="242" y="118"/>
                  </a:lnTo>
                  <a:lnTo>
                    <a:pt x="242" y="120"/>
                  </a:lnTo>
                  <a:lnTo>
                    <a:pt x="245" y="121"/>
                  </a:lnTo>
                  <a:lnTo>
                    <a:pt x="246" y="123"/>
                  </a:lnTo>
                  <a:lnTo>
                    <a:pt x="248" y="125"/>
                  </a:lnTo>
                  <a:lnTo>
                    <a:pt x="249" y="127"/>
                  </a:lnTo>
                  <a:lnTo>
                    <a:pt x="252" y="129"/>
                  </a:lnTo>
                  <a:lnTo>
                    <a:pt x="254" y="130"/>
                  </a:lnTo>
                  <a:lnTo>
                    <a:pt x="254" y="133"/>
                  </a:lnTo>
                  <a:lnTo>
                    <a:pt x="256" y="133"/>
                  </a:lnTo>
                  <a:lnTo>
                    <a:pt x="256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05840" y="3088800"/>
              <a:ext cx="389520" cy="80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0" name=""/>
          <p:cNvSpPr/>
          <p:nvPr/>
        </p:nvSpPr>
        <p:spPr>
          <a:xfrm>
            <a:off x="5500800" y="2782800"/>
            <a:ext cx="452160" cy="327240"/>
          </a:xfrm>
          <a:custGeom>
            <a:avLst/>
            <a:gdLst/>
            <a:ahLst/>
            <a:rect l="l" t="t" r="r" b="b"/>
            <a:pathLst>
              <a:path w="257" h="135">
                <a:moveTo>
                  <a:pt x="249" y="0"/>
                </a:move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50" y="1"/>
                </a:lnTo>
                <a:lnTo>
                  <a:pt x="247" y="1"/>
                </a:lnTo>
                <a:lnTo>
                  <a:pt x="245" y="1"/>
                </a:lnTo>
                <a:lnTo>
                  <a:pt x="243" y="2"/>
                </a:lnTo>
                <a:lnTo>
                  <a:pt x="240" y="2"/>
                </a:lnTo>
                <a:lnTo>
                  <a:pt x="238" y="2"/>
                </a:lnTo>
                <a:lnTo>
                  <a:pt x="236" y="2"/>
                </a:lnTo>
                <a:lnTo>
                  <a:pt x="233" y="2"/>
                </a:lnTo>
                <a:lnTo>
                  <a:pt x="231" y="2"/>
                </a:lnTo>
                <a:lnTo>
                  <a:pt x="229" y="2"/>
                </a:lnTo>
                <a:lnTo>
                  <a:pt x="227" y="2"/>
                </a:lnTo>
                <a:lnTo>
                  <a:pt x="224" y="2"/>
                </a:lnTo>
                <a:lnTo>
                  <a:pt x="222" y="2"/>
                </a:lnTo>
                <a:lnTo>
                  <a:pt x="220" y="4"/>
                </a:lnTo>
                <a:lnTo>
                  <a:pt x="217" y="5"/>
                </a:lnTo>
                <a:lnTo>
                  <a:pt x="215" y="5"/>
                </a:lnTo>
                <a:lnTo>
                  <a:pt x="213" y="5"/>
                </a:lnTo>
                <a:lnTo>
                  <a:pt x="210" y="5"/>
                </a:lnTo>
                <a:lnTo>
                  <a:pt x="208" y="5"/>
                </a:lnTo>
                <a:lnTo>
                  <a:pt x="206" y="5"/>
                </a:lnTo>
                <a:lnTo>
                  <a:pt x="203" y="6"/>
                </a:lnTo>
                <a:lnTo>
                  <a:pt x="201" y="6"/>
                </a:lnTo>
                <a:lnTo>
                  <a:pt x="199" y="6"/>
                </a:lnTo>
                <a:lnTo>
                  <a:pt x="197" y="6"/>
                </a:lnTo>
                <a:lnTo>
                  <a:pt x="194" y="6"/>
                </a:lnTo>
                <a:lnTo>
                  <a:pt x="192" y="7"/>
                </a:lnTo>
                <a:lnTo>
                  <a:pt x="190" y="7"/>
                </a:lnTo>
                <a:lnTo>
                  <a:pt x="187" y="8"/>
                </a:lnTo>
                <a:lnTo>
                  <a:pt x="185" y="8"/>
                </a:lnTo>
                <a:lnTo>
                  <a:pt x="183" y="9"/>
                </a:lnTo>
                <a:lnTo>
                  <a:pt x="180" y="9"/>
                </a:lnTo>
                <a:lnTo>
                  <a:pt x="178" y="10"/>
                </a:lnTo>
                <a:lnTo>
                  <a:pt x="176" y="12"/>
                </a:lnTo>
                <a:lnTo>
                  <a:pt x="173" y="12"/>
                </a:lnTo>
                <a:lnTo>
                  <a:pt x="171" y="13"/>
                </a:lnTo>
                <a:lnTo>
                  <a:pt x="169" y="13"/>
                </a:lnTo>
                <a:lnTo>
                  <a:pt x="166" y="13"/>
                </a:lnTo>
                <a:lnTo>
                  <a:pt x="164" y="13"/>
                </a:lnTo>
                <a:lnTo>
                  <a:pt x="162" y="15"/>
                </a:lnTo>
                <a:lnTo>
                  <a:pt x="160" y="15"/>
                </a:lnTo>
                <a:lnTo>
                  <a:pt x="157" y="16"/>
                </a:lnTo>
                <a:lnTo>
                  <a:pt x="155" y="17"/>
                </a:lnTo>
                <a:lnTo>
                  <a:pt x="153" y="17"/>
                </a:lnTo>
                <a:lnTo>
                  <a:pt x="150" y="19"/>
                </a:lnTo>
                <a:lnTo>
                  <a:pt x="148" y="19"/>
                </a:lnTo>
                <a:lnTo>
                  <a:pt x="146" y="20"/>
                </a:lnTo>
                <a:lnTo>
                  <a:pt x="143" y="21"/>
                </a:lnTo>
                <a:lnTo>
                  <a:pt x="141" y="22"/>
                </a:lnTo>
                <a:lnTo>
                  <a:pt x="139" y="22"/>
                </a:lnTo>
                <a:lnTo>
                  <a:pt x="138" y="24"/>
                </a:lnTo>
                <a:lnTo>
                  <a:pt x="135" y="24"/>
                </a:lnTo>
                <a:lnTo>
                  <a:pt x="133" y="25"/>
                </a:lnTo>
                <a:lnTo>
                  <a:pt x="131" y="25"/>
                </a:lnTo>
                <a:lnTo>
                  <a:pt x="128" y="27"/>
                </a:lnTo>
                <a:lnTo>
                  <a:pt x="126" y="28"/>
                </a:lnTo>
                <a:lnTo>
                  <a:pt x="124" y="29"/>
                </a:lnTo>
                <a:lnTo>
                  <a:pt x="121" y="30"/>
                </a:lnTo>
                <a:lnTo>
                  <a:pt x="120" y="32"/>
                </a:lnTo>
                <a:lnTo>
                  <a:pt x="118" y="32"/>
                </a:lnTo>
                <a:lnTo>
                  <a:pt x="116" y="34"/>
                </a:lnTo>
                <a:lnTo>
                  <a:pt x="115" y="36"/>
                </a:lnTo>
                <a:lnTo>
                  <a:pt x="112" y="36"/>
                </a:lnTo>
                <a:lnTo>
                  <a:pt x="111" y="38"/>
                </a:lnTo>
                <a:lnTo>
                  <a:pt x="109" y="39"/>
                </a:lnTo>
                <a:lnTo>
                  <a:pt x="106" y="39"/>
                </a:lnTo>
                <a:lnTo>
                  <a:pt x="104" y="40"/>
                </a:lnTo>
                <a:lnTo>
                  <a:pt x="102" y="42"/>
                </a:lnTo>
                <a:lnTo>
                  <a:pt x="99" y="43"/>
                </a:lnTo>
                <a:lnTo>
                  <a:pt x="97" y="43"/>
                </a:lnTo>
                <a:lnTo>
                  <a:pt x="97" y="45"/>
                </a:lnTo>
                <a:lnTo>
                  <a:pt x="95" y="45"/>
                </a:lnTo>
                <a:lnTo>
                  <a:pt x="93" y="46"/>
                </a:lnTo>
                <a:lnTo>
                  <a:pt x="90" y="49"/>
                </a:lnTo>
                <a:lnTo>
                  <a:pt x="88" y="50"/>
                </a:lnTo>
                <a:lnTo>
                  <a:pt x="86" y="51"/>
                </a:lnTo>
                <a:lnTo>
                  <a:pt x="83" y="52"/>
                </a:lnTo>
                <a:lnTo>
                  <a:pt x="82" y="54"/>
                </a:lnTo>
                <a:lnTo>
                  <a:pt x="80" y="54"/>
                </a:lnTo>
                <a:lnTo>
                  <a:pt x="80" y="57"/>
                </a:lnTo>
                <a:lnTo>
                  <a:pt x="78" y="57"/>
                </a:lnTo>
                <a:lnTo>
                  <a:pt x="76" y="59"/>
                </a:lnTo>
                <a:lnTo>
                  <a:pt x="74" y="59"/>
                </a:lnTo>
                <a:lnTo>
                  <a:pt x="73" y="61"/>
                </a:lnTo>
                <a:lnTo>
                  <a:pt x="71" y="61"/>
                </a:lnTo>
                <a:lnTo>
                  <a:pt x="69" y="64"/>
                </a:lnTo>
                <a:lnTo>
                  <a:pt x="67" y="64"/>
                </a:lnTo>
                <a:lnTo>
                  <a:pt x="66" y="66"/>
                </a:lnTo>
                <a:lnTo>
                  <a:pt x="64" y="67"/>
                </a:lnTo>
                <a:lnTo>
                  <a:pt x="61" y="68"/>
                </a:lnTo>
                <a:lnTo>
                  <a:pt x="60" y="71"/>
                </a:lnTo>
                <a:lnTo>
                  <a:pt x="59" y="73"/>
                </a:lnTo>
                <a:lnTo>
                  <a:pt x="57" y="74"/>
                </a:lnTo>
                <a:lnTo>
                  <a:pt x="56" y="76"/>
                </a:lnTo>
                <a:lnTo>
                  <a:pt x="53" y="77"/>
                </a:lnTo>
                <a:lnTo>
                  <a:pt x="51" y="77"/>
                </a:lnTo>
                <a:lnTo>
                  <a:pt x="50" y="80"/>
                </a:lnTo>
                <a:lnTo>
                  <a:pt x="48" y="81"/>
                </a:lnTo>
                <a:lnTo>
                  <a:pt x="48" y="83"/>
                </a:lnTo>
                <a:lnTo>
                  <a:pt x="45" y="84"/>
                </a:lnTo>
                <a:lnTo>
                  <a:pt x="45" y="87"/>
                </a:lnTo>
                <a:lnTo>
                  <a:pt x="43" y="88"/>
                </a:lnTo>
                <a:lnTo>
                  <a:pt x="42" y="90"/>
                </a:lnTo>
                <a:lnTo>
                  <a:pt x="39" y="90"/>
                </a:lnTo>
                <a:lnTo>
                  <a:pt x="38" y="92"/>
                </a:lnTo>
                <a:lnTo>
                  <a:pt x="36" y="94"/>
                </a:lnTo>
                <a:lnTo>
                  <a:pt x="35" y="96"/>
                </a:lnTo>
                <a:lnTo>
                  <a:pt x="32" y="97"/>
                </a:lnTo>
                <a:lnTo>
                  <a:pt x="31" y="99"/>
                </a:lnTo>
                <a:lnTo>
                  <a:pt x="29" y="101"/>
                </a:lnTo>
                <a:lnTo>
                  <a:pt x="28" y="103"/>
                </a:lnTo>
                <a:lnTo>
                  <a:pt x="26" y="104"/>
                </a:lnTo>
                <a:lnTo>
                  <a:pt x="26" y="106"/>
                </a:lnTo>
                <a:lnTo>
                  <a:pt x="24" y="109"/>
                </a:lnTo>
                <a:lnTo>
                  <a:pt x="22" y="109"/>
                </a:lnTo>
                <a:lnTo>
                  <a:pt x="21" y="111"/>
                </a:lnTo>
                <a:lnTo>
                  <a:pt x="19" y="112"/>
                </a:lnTo>
                <a:lnTo>
                  <a:pt x="17" y="114"/>
                </a:lnTo>
                <a:lnTo>
                  <a:pt x="15" y="116"/>
                </a:lnTo>
                <a:lnTo>
                  <a:pt x="14" y="118"/>
                </a:lnTo>
                <a:lnTo>
                  <a:pt x="14" y="120"/>
                </a:lnTo>
                <a:lnTo>
                  <a:pt x="12" y="121"/>
                </a:lnTo>
                <a:lnTo>
                  <a:pt x="11" y="124"/>
                </a:lnTo>
                <a:lnTo>
                  <a:pt x="8" y="125"/>
                </a:lnTo>
                <a:lnTo>
                  <a:pt x="7" y="127"/>
                </a:lnTo>
                <a:lnTo>
                  <a:pt x="5" y="129"/>
                </a:lnTo>
                <a:lnTo>
                  <a:pt x="2" y="131"/>
                </a:lnTo>
                <a:lnTo>
                  <a:pt x="2" y="133"/>
                </a:lnTo>
                <a:lnTo>
                  <a:pt x="0" y="133"/>
                </a:lnTo>
                <a:lnTo>
                  <a:pt x="0" y="13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5121000" y="3090960"/>
            <a:ext cx="390600" cy="80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2" name=""/>
          <p:cNvGrpSpPr/>
          <p:nvPr/>
        </p:nvGrpSpPr>
        <p:grpSpPr>
          <a:xfrm>
            <a:off x="4332240" y="3811320"/>
            <a:ext cx="829800" cy="1116000"/>
            <a:chOff x="4332240" y="3811320"/>
            <a:chExt cx="829800" cy="1116000"/>
          </a:xfrm>
        </p:grpSpPr>
        <p:sp>
          <p:nvSpPr>
            <p:cNvPr id="1783" name=""/>
            <p:cNvSpPr/>
            <p:nvPr/>
          </p:nvSpPr>
          <p:spPr>
            <a:xfrm>
              <a:off x="4332240" y="4600080"/>
              <a:ext cx="450360" cy="32724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135"/>
                  </a:moveTo>
                  <a:lnTo>
                    <a:pt x="0" y="135"/>
                  </a:lnTo>
                  <a:lnTo>
                    <a:pt x="2" y="135"/>
                  </a:lnTo>
                  <a:lnTo>
                    <a:pt x="4" y="135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2"/>
                  </a:lnTo>
                  <a:lnTo>
                    <a:pt x="16" y="132"/>
                  </a:lnTo>
                  <a:lnTo>
                    <a:pt x="18" y="132"/>
                  </a:lnTo>
                  <a:lnTo>
                    <a:pt x="21" y="132"/>
                  </a:lnTo>
                  <a:lnTo>
                    <a:pt x="23" y="132"/>
                  </a:lnTo>
                  <a:lnTo>
                    <a:pt x="25" y="132"/>
                  </a:lnTo>
                  <a:lnTo>
                    <a:pt x="27" y="132"/>
                  </a:lnTo>
                  <a:lnTo>
                    <a:pt x="30" y="132"/>
                  </a:lnTo>
                  <a:lnTo>
                    <a:pt x="32" y="132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39" y="130"/>
                  </a:lnTo>
                  <a:lnTo>
                    <a:pt x="41" y="130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48" y="130"/>
                  </a:lnTo>
                  <a:lnTo>
                    <a:pt x="51" y="130"/>
                  </a:lnTo>
                  <a:lnTo>
                    <a:pt x="53" y="129"/>
                  </a:lnTo>
                  <a:lnTo>
                    <a:pt x="55" y="129"/>
                  </a:lnTo>
                  <a:lnTo>
                    <a:pt x="58" y="129"/>
                  </a:lnTo>
                  <a:lnTo>
                    <a:pt x="60" y="129"/>
                  </a:lnTo>
                  <a:lnTo>
                    <a:pt x="62" y="129"/>
                  </a:lnTo>
                  <a:lnTo>
                    <a:pt x="64" y="128"/>
                  </a:lnTo>
                  <a:lnTo>
                    <a:pt x="67" y="128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5"/>
                  </a:lnTo>
                  <a:lnTo>
                    <a:pt x="76" y="125"/>
                  </a:lnTo>
                  <a:lnTo>
                    <a:pt x="78" y="124"/>
                  </a:lnTo>
                  <a:lnTo>
                    <a:pt x="81" y="123"/>
                  </a:lnTo>
                  <a:lnTo>
                    <a:pt x="83" y="123"/>
                  </a:lnTo>
                  <a:lnTo>
                    <a:pt x="85" y="122"/>
                  </a:lnTo>
                  <a:lnTo>
                    <a:pt x="88" y="122"/>
                  </a:lnTo>
                  <a:lnTo>
                    <a:pt x="90" y="122"/>
                  </a:lnTo>
                  <a:lnTo>
                    <a:pt x="92" y="122"/>
                  </a:lnTo>
                  <a:lnTo>
                    <a:pt x="94" y="120"/>
                  </a:lnTo>
                  <a:lnTo>
                    <a:pt x="97" y="120"/>
                  </a:lnTo>
                  <a:lnTo>
                    <a:pt x="99" y="119"/>
                  </a:lnTo>
                  <a:lnTo>
                    <a:pt x="101" y="117"/>
                  </a:lnTo>
                  <a:lnTo>
                    <a:pt x="104" y="117"/>
                  </a:lnTo>
                  <a:lnTo>
                    <a:pt x="106" y="116"/>
                  </a:lnTo>
                  <a:lnTo>
                    <a:pt x="108" y="116"/>
                  </a:lnTo>
                  <a:lnTo>
                    <a:pt x="111" y="115"/>
                  </a:lnTo>
                  <a:lnTo>
                    <a:pt x="113" y="114"/>
                  </a:lnTo>
                  <a:lnTo>
                    <a:pt x="115" y="113"/>
                  </a:lnTo>
                  <a:lnTo>
                    <a:pt x="118" y="113"/>
                  </a:lnTo>
                  <a:lnTo>
                    <a:pt x="119" y="110"/>
                  </a:lnTo>
                  <a:lnTo>
                    <a:pt x="121" y="110"/>
                  </a:lnTo>
                  <a:lnTo>
                    <a:pt x="123" y="109"/>
                  </a:lnTo>
                  <a:lnTo>
                    <a:pt x="126" y="109"/>
                  </a:lnTo>
                  <a:lnTo>
                    <a:pt x="128" y="108"/>
                  </a:lnTo>
                  <a:lnTo>
                    <a:pt x="130" y="107"/>
                  </a:lnTo>
                  <a:lnTo>
                    <a:pt x="133" y="106"/>
                  </a:lnTo>
                  <a:lnTo>
                    <a:pt x="135" y="105"/>
                  </a:lnTo>
                  <a:lnTo>
                    <a:pt x="136" y="102"/>
                  </a:lnTo>
                  <a:lnTo>
                    <a:pt x="138" y="102"/>
                  </a:lnTo>
                  <a:lnTo>
                    <a:pt x="141" y="101"/>
                  </a:lnTo>
                  <a:lnTo>
                    <a:pt x="142" y="99"/>
                  </a:lnTo>
                  <a:lnTo>
                    <a:pt x="144" y="99"/>
                  </a:lnTo>
                  <a:lnTo>
                    <a:pt x="145" y="97"/>
                  </a:lnTo>
                  <a:lnTo>
                    <a:pt x="148" y="95"/>
                  </a:lnTo>
                  <a:lnTo>
                    <a:pt x="150" y="95"/>
                  </a:lnTo>
                  <a:lnTo>
                    <a:pt x="152" y="94"/>
                  </a:lnTo>
                  <a:lnTo>
                    <a:pt x="155" y="93"/>
                  </a:lnTo>
                  <a:lnTo>
                    <a:pt x="157" y="92"/>
                  </a:lnTo>
                  <a:lnTo>
                    <a:pt x="159" y="92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6" y="86"/>
                  </a:lnTo>
                  <a:lnTo>
                    <a:pt x="168" y="85"/>
                  </a:lnTo>
                  <a:lnTo>
                    <a:pt x="171" y="84"/>
                  </a:lnTo>
                  <a:lnTo>
                    <a:pt x="173" y="83"/>
                  </a:lnTo>
                  <a:lnTo>
                    <a:pt x="174" y="80"/>
                  </a:lnTo>
                  <a:lnTo>
                    <a:pt x="177" y="80"/>
                  </a:lnTo>
                  <a:lnTo>
                    <a:pt x="177" y="78"/>
                  </a:lnTo>
                  <a:lnTo>
                    <a:pt x="179" y="78"/>
                  </a:lnTo>
                  <a:lnTo>
                    <a:pt x="180" y="76"/>
                  </a:lnTo>
                  <a:lnTo>
                    <a:pt x="182" y="76"/>
                  </a:lnTo>
                  <a:lnTo>
                    <a:pt x="183" y="73"/>
                  </a:lnTo>
                  <a:lnTo>
                    <a:pt x="186" y="73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0" y="69"/>
                  </a:lnTo>
                  <a:lnTo>
                    <a:pt x="193" y="68"/>
                  </a:lnTo>
                  <a:lnTo>
                    <a:pt x="195" y="67"/>
                  </a:lnTo>
                  <a:lnTo>
                    <a:pt x="196" y="64"/>
                  </a:lnTo>
                  <a:lnTo>
                    <a:pt x="197" y="62"/>
                  </a:lnTo>
                  <a:lnTo>
                    <a:pt x="200" y="61"/>
                  </a:lnTo>
                  <a:lnTo>
                    <a:pt x="201" y="58"/>
                  </a:lnTo>
                  <a:lnTo>
                    <a:pt x="203" y="57"/>
                  </a:lnTo>
                  <a:lnTo>
                    <a:pt x="205" y="57"/>
                  </a:lnTo>
                  <a:lnTo>
                    <a:pt x="207" y="55"/>
                  </a:lnTo>
                  <a:lnTo>
                    <a:pt x="209" y="54"/>
                  </a:lnTo>
                  <a:lnTo>
                    <a:pt x="209" y="52"/>
                  </a:lnTo>
                  <a:lnTo>
                    <a:pt x="211" y="50"/>
                  </a:lnTo>
                  <a:lnTo>
                    <a:pt x="211" y="48"/>
                  </a:lnTo>
                  <a:lnTo>
                    <a:pt x="213" y="47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2"/>
                  </a:lnTo>
                  <a:lnTo>
                    <a:pt x="220" y="41"/>
                  </a:lnTo>
                  <a:lnTo>
                    <a:pt x="222" y="39"/>
                  </a:lnTo>
                  <a:lnTo>
                    <a:pt x="224" y="38"/>
                  </a:lnTo>
                  <a:lnTo>
                    <a:pt x="225" y="35"/>
                  </a:lnTo>
                  <a:lnTo>
                    <a:pt x="227" y="34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4" y="26"/>
                  </a:lnTo>
                  <a:lnTo>
                    <a:pt x="235" y="24"/>
                  </a:lnTo>
                  <a:lnTo>
                    <a:pt x="238" y="23"/>
                  </a:lnTo>
                  <a:lnTo>
                    <a:pt x="239" y="20"/>
                  </a:lnTo>
                  <a:lnTo>
                    <a:pt x="241" y="19"/>
                  </a:lnTo>
                  <a:lnTo>
                    <a:pt x="242" y="17"/>
                  </a:lnTo>
                  <a:lnTo>
                    <a:pt x="242" y="15"/>
                  </a:lnTo>
                  <a:lnTo>
                    <a:pt x="245" y="13"/>
                  </a:lnTo>
                  <a:lnTo>
                    <a:pt x="246" y="11"/>
                  </a:lnTo>
                  <a:lnTo>
                    <a:pt x="248" y="10"/>
                  </a:lnTo>
                  <a:lnTo>
                    <a:pt x="249" y="8"/>
                  </a:lnTo>
                  <a:lnTo>
                    <a:pt x="252" y="5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4771800" y="3811320"/>
              <a:ext cx="390240" cy="80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6757920" y="3811320"/>
            <a:ext cx="829800" cy="1116000"/>
            <a:chOff x="6757920" y="3811320"/>
            <a:chExt cx="829800" cy="1116000"/>
          </a:xfrm>
        </p:grpSpPr>
        <p:sp>
          <p:nvSpPr>
            <p:cNvPr id="1786" name=""/>
            <p:cNvSpPr/>
            <p:nvPr/>
          </p:nvSpPr>
          <p:spPr>
            <a:xfrm>
              <a:off x="7137000" y="4600080"/>
              <a:ext cx="450720" cy="327240"/>
            </a:xfrm>
            <a:custGeom>
              <a:avLst/>
              <a:gdLst/>
              <a:ahLst/>
              <a:rect l="l" t="t" r="r" b="b"/>
              <a:pathLst>
                <a:path w="257" h="135">
                  <a:moveTo>
                    <a:pt x="249" y="135"/>
                  </a:moveTo>
                  <a:lnTo>
                    <a:pt x="257" y="135"/>
                  </a:lnTo>
                  <a:lnTo>
                    <a:pt x="254" y="135"/>
                  </a:lnTo>
                  <a:lnTo>
                    <a:pt x="252" y="135"/>
                  </a:lnTo>
                  <a:lnTo>
                    <a:pt x="250" y="134"/>
                  </a:lnTo>
                  <a:lnTo>
                    <a:pt x="247" y="134"/>
                  </a:lnTo>
                  <a:lnTo>
                    <a:pt x="245" y="134"/>
                  </a:lnTo>
                  <a:lnTo>
                    <a:pt x="243" y="132"/>
                  </a:lnTo>
                  <a:lnTo>
                    <a:pt x="240" y="132"/>
                  </a:lnTo>
                  <a:lnTo>
                    <a:pt x="238" y="132"/>
                  </a:lnTo>
                  <a:lnTo>
                    <a:pt x="236" y="132"/>
                  </a:lnTo>
                  <a:lnTo>
                    <a:pt x="234" y="132"/>
                  </a:lnTo>
                  <a:lnTo>
                    <a:pt x="231" y="132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0" y="131"/>
                  </a:lnTo>
                  <a:lnTo>
                    <a:pt x="217" y="130"/>
                  </a:lnTo>
                  <a:lnTo>
                    <a:pt x="215" y="130"/>
                  </a:lnTo>
                  <a:lnTo>
                    <a:pt x="213" y="130"/>
                  </a:lnTo>
                  <a:lnTo>
                    <a:pt x="210" y="130"/>
                  </a:lnTo>
                  <a:lnTo>
                    <a:pt x="208" y="130"/>
                  </a:lnTo>
                  <a:lnTo>
                    <a:pt x="206" y="130"/>
                  </a:lnTo>
                  <a:lnTo>
                    <a:pt x="204" y="129"/>
                  </a:lnTo>
                  <a:lnTo>
                    <a:pt x="201" y="129"/>
                  </a:lnTo>
                  <a:lnTo>
                    <a:pt x="199" y="129"/>
                  </a:lnTo>
                  <a:lnTo>
                    <a:pt x="197" y="129"/>
                  </a:lnTo>
                  <a:lnTo>
                    <a:pt x="194" y="129"/>
                  </a:lnTo>
                  <a:lnTo>
                    <a:pt x="192" y="128"/>
                  </a:lnTo>
                  <a:lnTo>
                    <a:pt x="190" y="128"/>
                  </a:lnTo>
                  <a:lnTo>
                    <a:pt x="187" y="127"/>
                  </a:lnTo>
                  <a:lnTo>
                    <a:pt x="185" y="127"/>
                  </a:lnTo>
                  <a:lnTo>
                    <a:pt x="183" y="125"/>
                  </a:lnTo>
                  <a:lnTo>
                    <a:pt x="180" y="125"/>
                  </a:lnTo>
                  <a:lnTo>
                    <a:pt x="178" y="124"/>
                  </a:lnTo>
                  <a:lnTo>
                    <a:pt x="176" y="123"/>
                  </a:lnTo>
                  <a:lnTo>
                    <a:pt x="173" y="123"/>
                  </a:lnTo>
                  <a:lnTo>
                    <a:pt x="171" y="122"/>
                  </a:lnTo>
                  <a:lnTo>
                    <a:pt x="169" y="122"/>
                  </a:lnTo>
                  <a:lnTo>
                    <a:pt x="167" y="122"/>
                  </a:lnTo>
                  <a:lnTo>
                    <a:pt x="164" y="122"/>
                  </a:lnTo>
                  <a:lnTo>
                    <a:pt x="162" y="120"/>
                  </a:lnTo>
                  <a:lnTo>
                    <a:pt x="160" y="120"/>
                  </a:lnTo>
                  <a:lnTo>
                    <a:pt x="157" y="119"/>
                  </a:lnTo>
                  <a:lnTo>
                    <a:pt x="155" y="117"/>
                  </a:lnTo>
                  <a:lnTo>
                    <a:pt x="153" y="117"/>
                  </a:lnTo>
                  <a:lnTo>
                    <a:pt x="150" y="116"/>
                  </a:lnTo>
                  <a:lnTo>
                    <a:pt x="148" y="116"/>
                  </a:lnTo>
                  <a:lnTo>
                    <a:pt x="146" y="115"/>
                  </a:lnTo>
                  <a:lnTo>
                    <a:pt x="143" y="114"/>
                  </a:lnTo>
                  <a:lnTo>
                    <a:pt x="141" y="113"/>
                  </a:lnTo>
                  <a:lnTo>
                    <a:pt x="139" y="113"/>
                  </a:lnTo>
                  <a:lnTo>
                    <a:pt x="138" y="110"/>
                  </a:lnTo>
                  <a:lnTo>
                    <a:pt x="135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28" y="108"/>
                  </a:lnTo>
                  <a:lnTo>
                    <a:pt x="126" y="107"/>
                  </a:lnTo>
                  <a:lnTo>
                    <a:pt x="124" y="106"/>
                  </a:lnTo>
                  <a:lnTo>
                    <a:pt x="122" y="105"/>
                  </a:lnTo>
                  <a:lnTo>
                    <a:pt x="120" y="102"/>
                  </a:lnTo>
                  <a:lnTo>
                    <a:pt x="118" y="102"/>
                  </a:lnTo>
                  <a:lnTo>
                    <a:pt x="116" y="101"/>
                  </a:lnTo>
                  <a:lnTo>
                    <a:pt x="115" y="99"/>
                  </a:lnTo>
                  <a:lnTo>
                    <a:pt x="112" y="99"/>
                  </a:lnTo>
                  <a:lnTo>
                    <a:pt x="111" y="97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3" y="89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2" y="80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78" y="78"/>
                  </a:lnTo>
                  <a:lnTo>
                    <a:pt x="76" y="76"/>
                  </a:lnTo>
                  <a:lnTo>
                    <a:pt x="74" y="76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70" y="71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64" y="68"/>
                  </a:lnTo>
                  <a:lnTo>
                    <a:pt x="61" y="67"/>
                  </a:lnTo>
                  <a:lnTo>
                    <a:pt x="60" y="64"/>
                  </a:lnTo>
                  <a:lnTo>
                    <a:pt x="59" y="62"/>
                  </a:lnTo>
                  <a:lnTo>
                    <a:pt x="57" y="61"/>
                  </a:lnTo>
                  <a:lnTo>
                    <a:pt x="56" y="58"/>
                  </a:lnTo>
                  <a:lnTo>
                    <a:pt x="53" y="57"/>
                  </a:lnTo>
                  <a:lnTo>
                    <a:pt x="51" y="57"/>
                  </a:lnTo>
                  <a:lnTo>
                    <a:pt x="50" y="55"/>
                  </a:lnTo>
                  <a:lnTo>
                    <a:pt x="48" y="54"/>
                  </a:lnTo>
                  <a:lnTo>
                    <a:pt x="48" y="52"/>
                  </a:lnTo>
                  <a:lnTo>
                    <a:pt x="45" y="50"/>
                  </a:lnTo>
                  <a:lnTo>
                    <a:pt x="45" y="48"/>
                  </a:lnTo>
                  <a:lnTo>
                    <a:pt x="43" y="47"/>
                  </a:lnTo>
                  <a:lnTo>
                    <a:pt x="42" y="45"/>
                  </a:lnTo>
                  <a:lnTo>
                    <a:pt x="39" y="45"/>
                  </a:lnTo>
                  <a:lnTo>
                    <a:pt x="38" y="42"/>
                  </a:lnTo>
                  <a:lnTo>
                    <a:pt x="36" y="41"/>
                  </a:lnTo>
                  <a:lnTo>
                    <a:pt x="35" y="39"/>
                  </a:lnTo>
                  <a:lnTo>
                    <a:pt x="33" y="38"/>
                  </a:lnTo>
                  <a:lnTo>
                    <a:pt x="31" y="35"/>
                  </a:lnTo>
                  <a:lnTo>
                    <a:pt x="29" y="34"/>
                  </a:lnTo>
                  <a:lnTo>
                    <a:pt x="28" y="32"/>
                  </a:lnTo>
                  <a:lnTo>
                    <a:pt x="26" y="31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 flipV="1">
              <a:off x="6757920" y="3811320"/>
              <a:ext cx="389520" cy="80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7602480" y="3808440"/>
            <a:ext cx="828360" cy="1115280"/>
            <a:chOff x="7602480" y="3808440"/>
            <a:chExt cx="828360" cy="1115280"/>
          </a:xfrm>
        </p:grpSpPr>
        <p:sp>
          <p:nvSpPr>
            <p:cNvPr id="1789" name=""/>
            <p:cNvSpPr/>
            <p:nvPr/>
          </p:nvSpPr>
          <p:spPr>
            <a:xfrm>
              <a:off x="7602480" y="4593960"/>
              <a:ext cx="449280" cy="329760"/>
            </a:xfrm>
            <a:custGeom>
              <a:avLst/>
              <a:gdLst/>
              <a:ahLst/>
              <a:rect l="l" t="t" r="r" b="b"/>
              <a:pathLst>
                <a:path w="256" h="136">
                  <a:moveTo>
                    <a:pt x="8" y="136"/>
                  </a:moveTo>
                  <a:lnTo>
                    <a:pt x="0" y="136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3"/>
                  </a:lnTo>
                  <a:lnTo>
                    <a:pt x="16" y="133"/>
                  </a:lnTo>
                  <a:lnTo>
                    <a:pt x="18" y="133"/>
                  </a:lnTo>
                  <a:lnTo>
                    <a:pt x="21" y="133"/>
                  </a:lnTo>
                  <a:lnTo>
                    <a:pt x="23" y="133"/>
                  </a:lnTo>
                  <a:lnTo>
                    <a:pt x="25" y="133"/>
                  </a:lnTo>
                  <a:lnTo>
                    <a:pt x="27" y="133"/>
                  </a:lnTo>
                  <a:lnTo>
                    <a:pt x="30" y="133"/>
                  </a:lnTo>
                  <a:lnTo>
                    <a:pt x="32" y="133"/>
                  </a:lnTo>
                  <a:lnTo>
                    <a:pt x="34" y="133"/>
                  </a:lnTo>
                  <a:lnTo>
                    <a:pt x="37" y="132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1" y="131"/>
                  </a:lnTo>
                  <a:lnTo>
                    <a:pt x="53" y="130"/>
                  </a:lnTo>
                  <a:lnTo>
                    <a:pt x="55" y="130"/>
                  </a:lnTo>
                  <a:lnTo>
                    <a:pt x="58" y="130"/>
                  </a:lnTo>
                  <a:lnTo>
                    <a:pt x="60" y="130"/>
                  </a:lnTo>
                  <a:lnTo>
                    <a:pt x="62" y="130"/>
                  </a:lnTo>
                  <a:lnTo>
                    <a:pt x="64" y="129"/>
                  </a:lnTo>
                  <a:lnTo>
                    <a:pt x="67" y="129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6"/>
                  </a:lnTo>
                  <a:lnTo>
                    <a:pt x="76" y="126"/>
                  </a:lnTo>
                  <a:lnTo>
                    <a:pt x="78" y="125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5" y="123"/>
                  </a:lnTo>
                  <a:lnTo>
                    <a:pt x="88" y="123"/>
                  </a:lnTo>
                  <a:lnTo>
                    <a:pt x="90" y="123"/>
                  </a:lnTo>
                  <a:lnTo>
                    <a:pt x="92" y="123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1" y="118"/>
                  </a:lnTo>
                  <a:lnTo>
                    <a:pt x="104" y="118"/>
                  </a:lnTo>
                  <a:lnTo>
                    <a:pt x="106" y="117"/>
                  </a:lnTo>
                  <a:lnTo>
                    <a:pt x="108" y="117"/>
                  </a:lnTo>
                  <a:lnTo>
                    <a:pt x="111" y="116"/>
                  </a:lnTo>
                  <a:lnTo>
                    <a:pt x="113" y="115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19" y="111"/>
                  </a:lnTo>
                  <a:lnTo>
                    <a:pt x="121" y="111"/>
                  </a:lnTo>
                  <a:lnTo>
                    <a:pt x="123" y="110"/>
                  </a:lnTo>
                  <a:lnTo>
                    <a:pt x="126" y="110"/>
                  </a:lnTo>
                  <a:lnTo>
                    <a:pt x="128" y="109"/>
                  </a:lnTo>
                  <a:lnTo>
                    <a:pt x="130" y="108"/>
                  </a:lnTo>
                  <a:lnTo>
                    <a:pt x="133" y="107"/>
                  </a:lnTo>
                  <a:lnTo>
                    <a:pt x="135" y="106"/>
                  </a:lnTo>
                  <a:lnTo>
                    <a:pt x="136" y="103"/>
                  </a:lnTo>
                  <a:lnTo>
                    <a:pt x="138" y="103"/>
                  </a:lnTo>
                  <a:lnTo>
                    <a:pt x="141" y="102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8" y="96"/>
                  </a:lnTo>
                  <a:lnTo>
                    <a:pt x="150" y="96"/>
                  </a:lnTo>
                  <a:lnTo>
                    <a:pt x="152" y="95"/>
                  </a:lnTo>
                  <a:lnTo>
                    <a:pt x="155" y="94"/>
                  </a:lnTo>
                  <a:lnTo>
                    <a:pt x="157" y="93"/>
                  </a:lnTo>
                  <a:lnTo>
                    <a:pt x="159" y="93"/>
                  </a:lnTo>
                  <a:lnTo>
                    <a:pt x="159" y="91"/>
                  </a:lnTo>
                  <a:lnTo>
                    <a:pt x="161" y="91"/>
                  </a:lnTo>
                  <a:lnTo>
                    <a:pt x="164" y="89"/>
                  </a:lnTo>
                  <a:lnTo>
                    <a:pt x="166" y="87"/>
                  </a:lnTo>
                  <a:lnTo>
                    <a:pt x="168" y="86"/>
                  </a:lnTo>
                  <a:lnTo>
                    <a:pt x="171" y="85"/>
                  </a:lnTo>
                  <a:lnTo>
                    <a:pt x="173" y="84"/>
                  </a:lnTo>
                  <a:lnTo>
                    <a:pt x="174" y="81"/>
                  </a:lnTo>
                  <a:lnTo>
                    <a:pt x="176" y="81"/>
                  </a:lnTo>
                  <a:lnTo>
                    <a:pt x="176" y="79"/>
                  </a:lnTo>
                  <a:lnTo>
                    <a:pt x="179" y="79"/>
                  </a:lnTo>
                  <a:lnTo>
                    <a:pt x="180" y="77"/>
                  </a:lnTo>
                  <a:lnTo>
                    <a:pt x="182" y="77"/>
                  </a:lnTo>
                  <a:lnTo>
                    <a:pt x="183" y="74"/>
                  </a:lnTo>
                  <a:lnTo>
                    <a:pt x="186" y="74"/>
                  </a:lnTo>
                  <a:lnTo>
                    <a:pt x="187" y="72"/>
                  </a:lnTo>
                  <a:lnTo>
                    <a:pt x="189" y="72"/>
                  </a:lnTo>
                  <a:lnTo>
                    <a:pt x="190" y="70"/>
                  </a:lnTo>
                  <a:lnTo>
                    <a:pt x="193" y="69"/>
                  </a:lnTo>
                  <a:lnTo>
                    <a:pt x="195" y="67"/>
                  </a:lnTo>
                  <a:lnTo>
                    <a:pt x="196" y="65"/>
                  </a:lnTo>
                  <a:lnTo>
                    <a:pt x="197" y="63"/>
                  </a:lnTo>
                  <a:lnTo>
                    <a:pt x="200" y="62"/>
                  </a:lnTo>
                  <a:lnTo>
                    <a:pt x="201" y="59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7" y="56"/>
                  </a:lnTo>
                  <a:lnTo>
                    <a:pt x="209" y="55"/>
                  </a:lnTo>
                  <a:lnTo>
                    <a:pt x="209" y="52"/>
                  </a:lnTo>
                  <a:lnTo>
                    <a:pt x="211" y="51"/>
                  </a:lnTo>
                  <a:lnTo>
                    <a:pt x="211" y="49"/>
                  </a:lnTo>
                  <a:lnTo>
                    <a:pt x="213" y="48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3"/>
                  </a:lnTo>
                  <a:lnTo>
                    <a:pt x="220" y="42"/>
                  </a:lnTo>
                  <a:lnTo>
                    <a:pt x="222" y="40"/>
                  </a:lnTo>
                  <a:lnTo>
                    <a:pt x="224" y="39"/>
                  </a:lnTo>
                  <a:lnTo>
                    <a:pt x="225" y="36"/>
                  </a:lnTo>
                  <a:lnTo>
                    <a:pt x="227" y="35"/>
                  </a:lnTo>
                  <a:lnTo>
                    <a:pt x="228" y="33"/>
                  </a:lnTo>
                  <a:lnTo>
                    <a:pt x="231" y="32"/>
                  </a:lnTo>
                  <a:lnTo>
                    <a:pt x="231" y="29"/>
                  </a:lnTo>
                  <a:lnTo>
                    <a:pt x="232" y="27"/>
                  </a:lnTo>
                  <a:lnTo>
                    <a:pt x="234" y="27"/>
                  </a:lnTo>
                  <a:lnTo>
                    <a:pt x="235" y="25"/>
                  </a:lnTo>
                  <a:lnTo>
                    <a:pt x="238" y="24"/>
                  </a:lnTo>
                  <a:lnTo>
                    <a:pt x="239" y="21"/>
                  </a:lnTo>
                  <a:lnTo>
                    <a:pt x="241" y="20"/>
                  </a:lnTo>
                  <a:lnTo>
                    <a:pt x="242" y="18"/>
                  </a:lnTo>
                  <a:lnTo>
                    <a:pt x="242" y="15"/>
                  </a:lnTo>
                  <a:lnTo>
                    <a:pt x="245" y="14"/>
                  </a:lnTo>
                  <a:lnTo>
                    <a:pt x="246" y="12"/>
                  </a:lnTo>
                  <a:lnTo>
                    <a:pt x="248" y="11"/>
                  </a:lnTo>
                  <a:lnTo>
                    <a:pt x="249" y="8"/>
                  </a:lnTo>
                  <a:lnTo>
                    <a:pt x="252" y="6"/>
                  </a:lnTo>
                  <a:lnTo>
                    <a:pt x="254" y="5"/>
                  </a:lnTo>
                  <a:lnTo>
                    <a:pt x="254" y="3"/>
                  </a:lnTo>
                  <a:lnTo>
                    <a:pt x="256" y="3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8041320" y="3808440"/>
              <a:ext cx="389520" cy="804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>
            <a:off x="4324320" y="3849840"/>
            <a:ext cx="44578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6174720" y="1747800"/>
            <a:ext cx="458280" cy="446040"/>
            <a:chOff x="6174720" y="1747800"/>
            <a:chExt cx="458280" cy="446040"/>
          </a:xfrm>
        </p:grpSpPr>
        <p:sp>
          <p:nvSpPr>
            <p:cNvPr id="1793" name=""/>
            <p:cNvSpPr/>
            <p:nvPr/>
          </p:nvSpPr>
          <p:spPr>
            <a:xfrm>
              <a:off x="6174720" y="1747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292440" y="1873440"/>
              <a:ext cx="34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 flipH="1">
            <a:off x="1860120" y="3656160"/>
            <a:ext cx="79560" cy="37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332000" y="3863880"/>
            <a:ext cx="736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874880" y="3843360"/>
            <a:ext cx="39600" cy="47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623960" y="339732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031840" y="3863880"/>
            <a:ext cx="428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885240" y="36781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571120" y="358308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187800" y="4033800"/>
            <a:ext cx="373536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052960" y="3849840"/>
            <a:ext cx="1800" cy="210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64480" y="3852720"/>
            <a:ext cx="1440" cy="210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064120" y="5581800"/>
            <a:ext cx="180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979960" y="1862280"/>
            <a:ext cx="3240" cy="336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5054760" y="5447880"/>
            <a:ext cx="196200" cy="266760"/>
            <a:chOff x="5054760" y="5447880"/>
            <a:chExt cx="196200" cy="266760"/>
          </a:xfrm>
        </p:grpSpPr>
        <p:sp>
          <p:nvSpPr>
            <p:cNvPr id="1808" name=""/>
            <p:cNvSpPr/>
            <p:nvPr/>
          </p:nvSpPr>
          <p:spPr>
            <a:xfrm flipV="1">
              <a:off x="5056560" y="5447880"/>
              <a:ext cx="1944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054760" y="5581800"/>
              <a:ext cx="194760" cy="13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6670440" y="5450040"/>
            <a:ext cx="196560" cy="269280"/>
            <a:chOff x="6670440" y="5450040"/>
            <a:chExt cx="196560" cy="269280"/>
          </a:xfrm>
        </p:grpSpPr>
        <p:sp>
          <p:nvSpPr>
            <p:cNvPr id="1811" name=""/>
            <p:cNvSpPr/>
            <p:nvPr/>
          </p:nvSpPr>
          <p:spPr>
            <a:xfrm flipH="1" flipV="1">
              <a:off x="6670440" y="5450040"/>
              <a:ext cx="192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6672600" y="5583240"/>
              <a:ext cx="19440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3" name=""/>
          <p:cNvSpPr/>
          <p:nvPr/>
        </p:nvSpPr>
        <p:spPr>
          <a:xfrm>
            <a:off x="598788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743440" y="572436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53680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358960" y="56926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207840" y="57182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325520" y="1499760"/>
            <a:ext cx="0" cy="2560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1325520" y="4060800"/>
            <a:ext cx="185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flipH="1">
            <a:off x="228600" y="3711600"/>
            <a:ext cx="21924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421000" y="3711600"/>
            <a:ext cx="0" cy="2444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419560" y="1427040"/>
            <a:ext cx="373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ąd spoczynkowy=kilka %amplitudy 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2486160" y="1979640"/>
            <a:ext cx="1831680" cy="18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562440" y="2614680"/>
            <a:ext cx="357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5" name="Clipboard01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1826" name=""/>
          <p:cNvSpPr/>
          <p:nvPr/>
        </p:nvSpPr>
        <p:spPr>
          <a:xfrm>
            <a:off x="3492360" y="3402000"/>
            <a:ext cx="72396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zykład symulacji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9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  <p:sp>
        <p:nvSpPr>
          <p:cNvPr id="1830" name=""/>
          <p:cNvSpPr/>
          <p:nvPr/>
        </p:nvSpPr>
        <p:spPr>
          <a:xfrm>
            <a:off x="3732120" y="2209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3735360" y="3793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783240" y="211932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n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00600" y="462600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p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733920" y="2000160"/>
            <a:ext cx="0" cy="318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838080" y="3476520"/>
            <a:ext cx="8182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761760" y="3162240"/>
            <a:ext cx="298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714240" y="3809880"/>
            <a:ext cx="2981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"/>
          <p:cNvSpPr/>
          <p:nvPr/>
        </p:nvSpPr>
        <p:spPr>
          <a:xfrm>
            <a:off x="1940040" y="4179960"/>
            <a:ext cx="1923840" cy="1622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9" name=""/>
          <p:cNvGraphicFramePr/>
          <p:nvPr/>
        </p:nvGraphicFramePr>
        <p:xfrm>
          <a:off x="762120" y="1066680"/>
          <a:ext cx="766908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690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5270040" y="185580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5187600" y="402588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1281960" y="1460520"/>
            <a:ext cx="5110560" cy="3777480"/>
            <a:chOff x="1281960" y="1460520"/>
            <a:chExt cx="5110560" cy="3777480"/>
          </a:xfrm>
        </p:grpSpPr>
        <p:sp>
          <p:nvSpPr>
            <p:cNvPr id="1848" name=""/>
            <p:cNvSpPr/>
            <p:nvPr/>
          </p:nvSpPr>
          <p:spPr>
            <a:xfrm>
              <a:off x="3130560" y="2700360"/>
              <a:ext cx="646200" cy="13381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3532320" y="3268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3790800" y="2262240"/>
              <a:ext cx="622080" cy="549000"/>
              <a:chOff x="3790800" y="2262240"/>
              <a:chExt cx="622080" cy="549000"/>
            </a:xfrm>
          </p:grpSpPr>
          <p:sp>
            <p:nvSpPr>
              <p:cNvPr id="1851" name=""/>
              <p:cNvSpPr/>
              <p:nvPr/>
            </p:nvSpPr>
            <p:spPr>
              <a:xfrm>
                <a:off x="3790800" y="226224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4023360" y="239940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4023360" y="2285640"/>
                <a:ext cx="201600" cy="18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023360" y="2604240"/>
                <a:ext cx="208080" cy="18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790800" y="2536200"/>
                <a:ext cx="2325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V="1">
                <a:off x="4180320" y="2672640"/>
                <a:ext cx="2160" cy="68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4102920" y="2741040"/>
                <a:ext cx="770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8" name=""/>
            <p:cNvSpPr/>
            <p:nvPr/>
          </p:nvSpPr>
          <p:spPr>
            <a:xfrm flipV="1">
              <a:off x="4257720" y="2080800"/>
              <a:ext cx="20628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257720" y="281160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495520" y="2995560"/>
              <a:ext cx="830160" cy="73044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0" y="0"/>
                  </a:moveTo>
                  <a:lnTo>
                    <a:pt x="0" y="406"/>
                  </a:lnTo>
                  <a:lnTo>
                    <a:pt x="407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601000" y="328932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Z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325680" y="3360600"/>
              <a:ext cx="206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532320" y="1531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532320" y="2538360"/>
              <a:ext cx="31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4464000" y="1531800"/>
              <a:ext cx="180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2909880" y="1531440"/>
              <a:ext cx="1440" cy="164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909880" y="1531800"/>
              <a:ext cx="290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2909880" y="3541680"/>
              <a:ext cx="1440" cy="155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3790800" y="3905280"/>
              <a:ext cx="622080" cy="549000"/>
              <a:chOff x="3790800" y="3905280"/>
              <a:chExt cx="622080" cy="549000"/>
            </a:xfrm>
          </p:grpSpPr>
          <p:sp>
            <p:nvSpPr>
              <p:cNvPr id="1870" name=""/>
              <p:cNvSpPr/>
              <p:nvPr/>
            </p:nvSpPr>
            <p:spPr>
              <a:xfrm>
                <a:off x="3790800" y="390528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023360" y="404388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023360" y="4249440"/>
                <a:ext cx="201600" cy="180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4023360" y="3928680"/>
                <a:ext cx="208080" cy="18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790800" y="4180680"/>
                <a:ext cx="2325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076280" y="3975480"/>
                <a:ext cx="2160" cy="68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4102920" y="4065480"/>
                <a:ext cx="77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3532320" y="4183200"/>
              <a:ext cx="51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4257720" y="372564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257720" y="4456080"/>
              <a:ext cx="20628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64000" y="299556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464000" y="3360600"/>
              <a:ext cx="124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909880" y="5097600"/>
              <a:ext cx="2901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4464000" y="4640400"/>
              <a:ext cx="1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670280" y="3268800"/>
              <a:ext cx="419400" cy="18252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41324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014560" y="3144960"/>
              <a:ext cx="104760" cy="9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41324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81560" y="331308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413240" y="331308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77684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93020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427560" y="1897200"/>
              <a:ext cx="207720" cy="36828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427560" y="4456080"/>
              <a:ext cx="207720" cy="36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481560" y="50497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81560" y="14875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81560" y="4135320"/>
              <a:ext cx="10296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481560" y="249084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708520" y="3268800"/>
              <a:ext cx="1800" cy="183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75928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75928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2290320" y="3633840"/>
              <a:ext cx="20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290680" y="3633840"/>
              <a:ext cx="18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185920" y="3909960"/>
              <a:ext cx="2080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3427560" y="2903400"/>
              <a:ext cx="207360" cy="185400"/>
              <a:chOff x="3427560" y="2903400"/>
              <a:chExt cx="207360" cy="185400"/>
            </a:xfrm>
          </p:grpSpPr>
          <p:sp>
            <p:nvSpPr>
              <p:cNvPr id="1905" name=""/>
              <p:cNvSpPr/>
              <p:nvPr/>
            </p:nvSpPr>
            <p:spPr>
              <a:xfrm>
                <a:off x="3427560" y="2903400"/>
                <a:ext cx="207360" cy="18396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427560" y="3087360"/>
                <a:ext cx="2073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3427560" y="3726000"/>
              <a:ext cx="207360" cy="185400"/>
              <a:chOff x="3427560" y="3726000"/>
              <a:chExt cx="207360" cy="185400"/>
            </a:xfrm>
          </p:grpSpPr>
          <p:sp>
            <p:nvSpPr>
              <p:cNvPr id="1908" name=""/>
              <p:cNvSpPr/>
              <p:nvPr/>
            </p:nvSpPr>
            <p:spPr>
              <a:xfrm>
                <a:off x="3427560" y="3726000"/>
                <a:ext cx="207360" cy="18360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427560" y="3909600"/>
                <a:ext cx="2073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0" name=""/>
            <p:cNvSpPr/>
            <p:nvPr/>
          </p:nvSpPr>
          <p:spPr>
            <a:xfrm>
              <a:off x="3740040" y="271944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3634920" y="271944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740040" y="271944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843360" y="2922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275880" y="16272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998520" y="30909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018120" y="1460520"/>
              <a:ext cx="21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172560" y="51004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913360" y="4932360"/>
              <a:ext cx="17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740040" y="354168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3635280" y="354168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740040" y="354168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84336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998520" y="37288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117600" y="2739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272760" y="290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27276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1760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722120" y="4186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568760" y="4110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722120" y="2633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568760" y="24670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740040" y="20098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740040" y="45673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470480" y="164700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468680" y="465048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281960" y="2865600"/>
              <a:ext cx="59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>
              <a:off x="2103480" y="32036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4700160" y="314316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863600" y="272736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48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51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54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96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14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82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260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324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397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470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543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616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689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130320" y="1062000"/>
            <a:ext cx="8674560" cy="4608720"/>
            <a:chOff x="130320" y="1062000"/>
            <a:chExt cx="8674560" cy="4608720"/>
          </a:xfrm>
        </p:grpSpPr>
        <p:sp>
          <p:nvSpPr>
            <p:cNvPr id="1943" name=""/>
            <p:cNvSpPr/>
            <p:nvPr/>
          </p:nvSpPr>
          <p:spPr>
            <a:xfrm>
              <a:off x="3349800" y="229536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27480" y="374508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868400" y="2036880"/>
              <a:ext cx="1517760" cy="1957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6" name=""/>
            <p:cNvGraphicFramePr/>
            <p:nvPr/>
          </p:nvGraphicFramePr>
          <p:xfrm>
            <a:off x="1066680" y="1062000"/>
            <a:ext cx="4343400" cy="460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062000"/>
                      <a:ext cx="4343400" cy="460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8" name=""/>
            <p:cNvSpPr/>
            <p:nvPr/>
          </p:nvSpPr>
          <p:spPr>
            <a:xfrm>
              <a:off x="4317840" y="137808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317840" y="435780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5900760" y="1941120"/>
              <a:ext cx="0" cy="25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913360" y="4478400"/>
              <a:ext cx="27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900760" y="2157480"/>
              <a:ext cx="1968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900760" y="2157480"/>
              <a:ext cx="1725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4" name=""/>
                <p:cNvSpPr txBox="1"/>
                <p:nvPr/>
              </p:nvSpPr>
              <p:spPr>
                <a:xfrm>
                  <a:off x="6264360" y="4746600"/>
                  <a:ext cx="22874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B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55" name=""/>
            <p:cNvSpPr/>
            <p:nvPr/>
          </p:nvSpPr>
          <p:spPr>
            <a:xfrm>
              <a:off x="7832520" y="284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179840" y="28544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7769160" y="4452840"/>
              <a:ext cx="0" cy="2858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8117640" y="394020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970240" y="1751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373800" y="35701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680160" y="3971880"/>
              <a:ext cx="22212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131640" y="1379520"/>
              <a:ext cx="36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8050680" y="2133720"/>
              <a:ext cx="754200" cy="510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7867800" y="2511360"/>
              <a:ext cx="272880" cy="619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955960" y="231300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58560" y="222084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916360" y="2752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553160" y="2840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961560" y="228132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B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30320" y="2852640"/>
              <a:ext cx="14047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4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"/>
          <p:cNvSpPr/>
          <p:nvPr/>
        </p:nvSpPr>
        <p:spPr>
          <a:xfrm>
            <a:off x="5530680" y="3780000"/>
            <a:ext cx="2760840" cy="1811160"/>
          </a:xfrm>
          <a:custGeom>
            <a:avLst/>
            <a:gdLst/>
            <a:ahLst/>
            <a:rect l="l" t="t" r="r" b="b"/>
            <a:pathLst>
              <a:path w="1739" h="1141">
                <a:moveTo>
                  <a:pt x="1572" y="63"/>
                </a:moveTo>
                <a:cubicBezTo>
                  <a:pt x="1459" y="43"/>
                  <a:pt x="1144" y="0"/>
                  <a:pt x="1039" y="30"/>
                </a:cubicBezTo>
                <a:cubicBezTo>
                  <a:pt x="934" y="60"/>
                  <a:pt x="996" y="174"/>
                  <a:pt x="939" y="241"/>
                </a:cubicBezTo>
                <a:cubicBezTo>
                  <a:pt x="882" y="308"/>
                  <a:pt x="761" y="419"/>
                  <a:pt x="694" y="430"/>
                </a:cubicBezTo>
                <a:cubicBezTo>
                  <a:pt x="627" y="441"/>
                  <a:pt x="594" y="341"/>
                  <a:pt x="539" y="308"/>
                </a:cubicBezTo>
                <a:cubicBezTo>
                  <a:pt x="484" y="275"/>
                  <a:pt x="442" y="225"/>
                  <a:pt x="361" y="230"/>
                </a:cubicBezTo>
                <a:cubicBezTo>
                  <a:pt x="280" y="235"/>
                  <a:pt x="100" y="274"/>
                  <a:pt x="50" y="341"/>
                </a:cubicBezTo>
                <a:cubicBezTo>
                  <a:pt x="0" y="408"/>
                  <a:pt x="42" y="530"/>
                  <a:pt x="61" y="630"/>
                </a:cubicBezTo>
                <a:cubicBezTo>
                  <a:pt x="80" y="730"/>
                  <a:pt x="96" y="859"/>
                  <a:pt x="161" y="941"/>
                </a:cubicBezTo>
                <a:cubicBezTo>
                  <a:pt x="226" y="1023"/>
                  <a:pt x="343" y="1097"/>
                  <a:pt x="450" y="1119"/>
                </a:cubicBezTo>
                <a:cubicBezTo>
                  <a:pt x="557" y="1141"/>
                  <a:pt x="664" y="1113"/>
                  <a:pt x="805" y="1074"/>
                </a:cubicBezTo>
                <a:cubicBezTo>
                  <a:pt x="946" y="1035"/>
                  <a:pt x="1183" y="948"/>
                  <a:pt x="1294" y="885"/>
                </a:cubicBezTo>
                <a:cubicBezTo>
                  <a:pt x="1405" y="822"/>
                  <a:pt x="1409" y="765"/>
                  <a:pt x="1472" y="697"/>
                </a:cubicBezTo>
                <a:cubicBezTo>
                  <a:pt x="1535" y="629"/>
                  <a:pt x="1631" y="546"/>
                  <a:pt x="1672" y="474"/>
                </a:cubicBezTo>
                <a:cubicBezTo>
                  <a:pt x="1713" y="402"/>
                  <a:pt x="1710" y="317"/>
                  <a:pt x="1717" y="263"/>
                </a:cubicBezTo>
                <a:cubicBezTo>
                  <a:pt x="1724" y="209"/>
                  <a:pt x="1739" y="182"/>
                  <a:pt x="1717" y="152"/>
                </a:cubicBezTo>
                <a:cubicBezTo>
                  <a:pt x="1695" y="122"/>
                  <a:pt x="1685" y="83"/>
                  <a:pt x="1572" y="63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641920" y="844560"/>
            <a:ext cx="2390760" cy="2009880"/>
          </a:xfrm>
          <a:custGeom>
            <a:avLst/>
            <a:gdLst/>
            <a:ahLst/>
            <a:rect l="l" t="t" r="r" b="b"/>
            <a:pathLst>
              <a:path w="1506" h="1266">
                <a:moveTo>
                  <a:pt x="46" y="35"/>
                </a:moveTo>
                <a:cubicBezTo>
                  <a:pt x="57" y="0"/>
                  <a:pt x="0" y="15"/>
                  <a:pt x="135" y="24"/>
                </a:cubicBezTo>
                <a:cubicBezTo>
                  <a:pt x="270" y="33"/>
                  <a:pt x="669" y="16"/>
                  <a:pt x="858" y="90"/>
                </a:cubicBezTo>
                <a:cubicBezTo>
                  <a:pt x="1047" y="164"/>
                  <a:pt x="1162" y="318"/>
                  <a:pt x="1269" y="468"/>
                </a:cubicBezTo>
                <a:cubicBezTo>
                  <a:pt x="1376" y="618"/>
                  <a:pt x="1498" y="862"/>
                  <a:pt x="1502" y="990"/>
                </a:cubicBezTo>
                <a:cubicBezTo>
                  <a:pt x="1506" y="1118"/>
                  <a:pt x="1387" y="1204"/>
                  <a:pt x="1291" y="1235"/>
                </a:cubicBezTo>
                <a:cubicBezTo>
                  <a:pt x="1195" y="1266"/>
                  <a:pt x="1000" y="1249"/>
                  <a:pt x="924" y="1179"/>
                </a:cubicBezTo>
                <a:cubicBezTo>
                  <a:pt x="848" y="1109"/>
                  <a:pt x="909" y="877"/>
                  <a:pt x="835" y="812"/>
                </a:cubicBezTo>
                <a:cubicBezTo>
                  <a:pt x="761" y="747"/>
                  <a:pt x="595" y="775"/>
                  <a:pt x="480" y="790"/>
                </a:cubicBezTo>
                <a:cubicBezTo>
                  <a:pt x="365" y="805"/>
                  <a:pt x="220" y="942"/>
                  <a:pt x="146" y="901"/>
                </a:cubicBezTo>
                <a:cubicBezTo>
                  <a:pt x="72" y="860"/>
                  <a:pt x="48" y="657"/>
                  <a:pt x="35" y="546"/>
                </a:cubicBezTo>
                <a:cubicBezTo>
                  <a:pt x="22" y="435"/>
                  <a:pt x="67" y="318"/>
                  <a:pt x="69" y="235"/>
                </a:cubicBezTo>
                <a:cubicBezTo>
                  <a:pt x="71" y="152"/>
                  <a:pt x="35" y="70"/>
                  <a:pt x="46" y="3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066680" y="652320"/>
            <a:ext cx="1755720" cy="2187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446120" y="3686040"/>
            <a:ext cx="1287720" cy="2046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5" name=""/>
          <p:cNvGraphicFramePr/>
          <p:nvPr/>
        </p:nvGraphicFramePr>
        <p:xfrm>
          <a:off x="609480" y="1066680"/>
          <a:ext cx="786312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8631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7" name=""/>
          <p:cNvSpPr/>
          <p:nvPr/>
        </p:nvSpPr>
        <p:spPr>
          <a:xfrm>
            <a:off x="336960" y="5757840"/>
            <a:ext cx="84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tyczne źródła prądowe             i        dynamiczne źródła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w. boots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7215120" y="2909880"/>
            <a:ext cx="134136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0" name=""/>
          <p:cNvGraphicFramePr/>
          <p:nvPr/>
        </p:nvGraphicFramePr>
        <p:xfrm>
          <a:off x="457200" y="1828800"/>
          <a:ext cx="812016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2016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silanie symetryczne i a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"/>
          <p:cNvSpPr/>
          <p:nvPr/>
        </p:nvSpPr>
        <p:spPr>
          <a:xfrm>
            <a:off x="4191120" y="2438280"/>
            <a:ext cx="1218960" cy="19814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4" name=""/>
          <p:cNvGraphicFramePr/>
          <p:nvPr/>
        </p:nvGraphicFramePr>
        <p:xfrm>
          <a:off x="2133720" y="1066680"/>
          <a:ext cx="433836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383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bezpieczenia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790600" y="2133720"/>
            <a:ext cx="24606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ranicznik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8" name=""/>
          <p:cNvGraphicFramePr/>
          <p:nvPr/>
        </p:nvGraphicFramePr>
        <p:xfrm>
          <a:off x="1219320" y="2514600"/>
          <a:ext cx="668340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834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nie końcowe scalonych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5392800" y="2412720"/>
            <a:ext cx="6120" cy="84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6" name=""/>
          <p:cNvGrpSpPr/>
          <p:nvPr/>
        </p:nvGrpSpPr>
        <p:grpSpPr>
          <a:xfrm>
            <a:off x="2946240" y="3692160"/>
            <a:ext cx="123840" cy="347400"/>
            <a:chOff x="2946240" y="3692160"/>
            <a:chExt cx="123840" cy="347400"/>
          </a:xfrm>
        </p:grpSpPr>
        <p:sp>
          <p:nvSpPr>
            <p:cNvPr id="2017" name=""/>
            <p:cNvSpPr/>
            <p:nvPr/>
          </p:nvSpPr>
          <p:spPr>
            <a:xfrm flipV="1">
              <a:off x="3004920" y="3692160"/>
              <a:ext cx="1800" cy="34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946240" y="36925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7" y="0"/>
                  </a:lnTo>
                  <a:lnTo>
                    <a:pt x="0" y="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9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531880" y="3657600"/>
            <a:ext cx="465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32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429000" y="4648320"/>
                <a:ext cx="16765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4" name=""/>
          <p:cNvSpPr/>
          <p:nvPr/>
        </p:nvSpPr>
        <p:spPr>
          <a:xfrm>
            <a:off x="2281320" y="5638680"/>
            <a:ext cx="471456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e same problemy ze stabilnoś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we wzmacniaczach opera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106800" y="370512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5105160" y="2590920"/>
            <a:ext cx="571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742360" y="23176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3657600" y="4295880"/>
                <a:ext cx="16765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2" name=""/>
          <p:cNvSpPr/>
          <p:nvPr/>
        </p:nvSpPr>
        <p:spPr>
          <a:xfrm>
            <a:off x="1370160" y="1477800"/>
            <a:ext cx="4601880" cy="2918160"/>
          </a:xfrm>
          <a:custGeom>
            <a:avLst/>
            <a:gdLst/>
            <a:ahLst/>
            <a:rect l="l" t="t" r="r" b="b"/>
            <a:pathLst>
              <a:path w="2899" h="1838">
                <a:moveTo>
                  <a:pt x="2826" y="69"/>
                </a:moveTo>
                <a:cubicBezTo>
                  <a:pt x="2533" y="34"/>
                  <a:pt x="2241" y="0"/>
                  <a:pt x="1893" y="24"/>
                </a:cubicBezTo>
                <a:cubicBezTo>
                  <a:pt x="1545" y="48"/>
                  <a:pt x="1037" y="94"/>
                  <a:pt x="737" y="213"/>
                </a:cubicBezTo>
                <a:cubicBezTo>
                  <a:pt x="437" y="332"/>
                  <a:pt x="186" y="545"/>
                  <a:pt x="93" y="736"/>
                </a:cubicBezTo>
                <a:cubicBezTo>
                  <a:pt x="0" y="927"/>
                  <a:pt x="12" y="1184"/>
                  <a:pt x="182" y="1358"/>
                </a:cubicBezTo>
                <a:cubicBezTo>
                  <a:pt x="352" y="1532"/>
                  <a:pt x="825" y="1722"/>
                  <a:pt x="1115" y="1780"/>
                </a:cubicBezTo>
                <a:cubicBezTo>
                  <a:pt x="1405" y="1838"/>
                  <a:pt x="1686" y="1750"/>
                  <a:pt x="1921" y="1709"/>
                </a:cubicBezTo>
                <a:cubicBezTo>
                  <a:pt x="2156" y="1668"/>
                  <a:pt x="2407" y="1571"/>
                  <a:pt x="2527" y="1535"/>
                </a:cubicBezTo>
                <a:cubicBezTo>
                  <a:pt x="2647" y="1499"/>
                  <a:pt x="2579" y="1517"/>
                  <a:pt x="2641" y="1493"/>
                </a:cubicBezTo>
                <a:cubicBezTo>
                  <a:pt x="2703" y="1469"/>
                  <a:pt x="2845" y="1412"/>
                  <a:pt x="2899" y="1391"/>
                </a:cubicBezTo>
              </a:path>
            </a:pathLst>
          </a:custGeom>
          <a:noFill/>
          <a:ln w="19080">
            <a:solidFill>
              <a:srgbClr val="33cc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5372280" y="24192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92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>
            <a:off x="4408560" y="2308320"/>
            <a:ext cx="1189080" cy="1827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708360" y="1768320"/>
            <a:ext cx="735120" cy="1721160"/>
          </a:xfrm>
          <a:custGeom>
            <a:avLst/>
            <a:gdLst/>
            <a:ahLst/>
            <a:rect l="l" t="t" r="r" b="b"/>
            <a:pathLst>
              <a:path w="463" h="1084">
                <a:moveTo>
                  <a:pt x="87" y="8"/>
                </a:moveTo>
                <a:cubicBezTo>
                  <a:pt x="131" y="0"/>
                  <a:pt x="224" y="27"/>
                  <a:pt x="276" y="69"/>
                </a:cubicBezTo>
                <a:cubicBezTo>
                  <a:pt x="329" y="111"/>
                  <a:pt x="373" y="201"/>
                  <a:pt x="403" y="262"/>
                </a:cubicBezTo>
                <a:cubicBezTo>
                  <a:pt x="433" y="324"/>
                  <a:pt x="463" y="374"/>
                  <a:pt x="457" y="435"/>
                </a:cubicBezTo>
                <a:cubicBezTo>
                  <a:pt x="452" y="496"/>
                  <a:pt x="387" y="541"/>
                  <a:pt x="367" y="628"/>
                </a:cubicBezTo>
                <a:cubicBezTo>
                  <a:pt x="348" y="715"/>
                  <a:pt x="355" y="880"/>
                  <a:pt x="340" y="953"/>
                </a:cubicBezTo>
                <a:cubicBezTo>
                  <a:pt x="325" y="1026"/>
                  <a:pt x="312" y="1052"/>
                  <a:pt x="275" y="1068"/>
                </a:cubicBezTo>
                <a:cubicBezTo>
                  <a:pt x="238" y="1084"/>
                  <a:pt x="153" y="1084"/>
                  <a:pt x="119" y="1052"/>
                </a:cubicBezTo>
                <a:cubicBezTo>
                  <a:pt x="85" y="1020"/>
                  <a:pt x="78" y="938"/>
                  <a:pt x="70" y="872"/>
                </a:cubicBezTo>
                <a:cubicBezTo>
                  <a:pt x="62" y="806"/>
                  <a:pt x="75" y="731"/>
                  <a:pt x="72" y="655"/>
                </a:cubicBezTo>
                <a:cubicBezTo>
                  <a:pt x="69" y="579"/>
                  <a:pt x="60" y="478"/>
                  <a:pt x="49" y="413"/>
                </a:cubicBezTo>
                <a:cubicBezTo>
                  <a:pt x="38" y="348"/>
                  <a:pt x="12" y="311"/>
                  <a:pt x="6" y="262"/>
                </a:cubicBezTo>
                <a:cubicBezTo>
                  <a:pt x="0" y="213"/>
                  <a:pt x="3" y="159"/>
                  <a:pt x="15" y="121"/>
                </a:cubicBezTo>
                <a:cubicBezTo>
                  <a:pt x="27" y="82"/>
                  <a:pt x="44" y="16"/>
                  <a:pt x="87" y="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rot="20959800">
            <a:off x="2886120" y="2333520"/>
            <a:ext cx="857160" cy="1771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6" name=""/>
          <p:cNvGraphicFramePr/>
          <p:nvPr/>
        </p:nvGraphicFramePr>
        <p:xfrm>
          <a:off x="225360" y="1644480"/>
          <a:ext cx="8640720" cy="35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644480"/>
                    <a:ext cx="864072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owy wzmacniacz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-3960" y="5397480"/>
            <a:ext cx="3606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 zwrotn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2, RF1, C3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975040" y="1173240"/>
            <a:ext cx="3670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bootstrap: R6, R7, C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246920" y="5397480"/>
            <a:ext cx="4871520" cy="11912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aryzacja wstęp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ąd spoczynkowy + zab. termiczn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4, R8, R9, R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3352680" y="3581280"/>
            <a:ext cx="106704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tranzystorami 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4" name=""/>
          <p:cNvGraphicFramePr/>
          <p:nvPr/>
        </p:nvGraphicFramePr>
        <p:xfrm>
          <a:off x="762120" y="1143000"/>
          <a:ext cx="791028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91028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283440" y="2560680"/>
            <a:ext cx="582480" cy="1955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149400" y="1301760"/>
            <a:ext cx="6938640" cy="456408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PA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700680" y="1811160"/>
            <a:ext cx="2270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 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drugie przebici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771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st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775800" y="2332080"/>
            <a:ext cx="6225120" cy="2379600"/>
            <a:chOff x="775800" y="2332080"/>
            <a:chExt cx="6225120" cy="2379600"/>
          </a:xfrm>
        </p:grpSpPr>
        <p:sp>
          <p:nvSpPr>
            <p:cNvPr id="2128" name=""/>
            <p:cNvSpPr/>
            <p:nvPr/>
          </p:nvSpPr>
          <p:spPr>
            <a:xfrm>
              <a:off x="2646360" y="25462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5533920" y="25606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784680" y="3141720"/>
              <a:ext cx="17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267080" y="3054240"/>
              <a:ext cx="679680" cy="18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321440" y="32716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382760" y="315432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052720" y="316692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27160" y="4118040"/>
              <a:ext cx="49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7000920" y="316548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6654600" y="31780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V="1">
              <a:off x="1407960" y="3365280"/>
              <a:ext cx="0" cy="10126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5800" y="36432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4156200" y="2855880"/>
              <a:ext cx="9396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353480" y="2332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2" name=""/>
            <p:cNvGrpSpPr/>
            <p:nvPr/>
          </p:nvGrpSpPr>
          <p:grpSpPr>
            <a:xfrm>
              <a:off x="2955960" y="3378240"/>
              <a:ext cx="385560" cy="284040"/>
              <a:chOff x="2955960" y="3378240"/>
              <a:chExt cx="385560" cy="284040"/>
            </a:xfrm>
          </p:grpSpPr>
          <p:sp>
            <p:nvSpPr>
              <p:cNvPr id="2143" name=""/>
              <p:cNvSpPr/>
              <p:nvPr/>
            </p:nvSpPr>
            <p:spPr>
              <a:xfrm>
                <a:off x="3128760" y="3378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955960" y="3636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5" name=""/>
            <p:cNvGrpSpPr/>
            <p:nvPr/>
          </p:nvGrpSpPr>
          <p:grpSpPr>
            <a:xfrm>
              <a:off x="6014880" y="3405240"/>
              <a:ext cx="385560" cy="284040"/>
              <a:chOff x="6014880" y="3405240"/>
              <a:chExt cx="385560" cy="284040"/>
            </a:xfrm>
          </p:grpSpPr>
          <p:sp>
            <p:nvSpPr>
              <p:cNvPr id="2146" name=""/>
              <p:cNvSpPr/>
              <p:nvPr/>
            </p:nvSpPr>
            <p:spPr>
              <a:xfrm>
                <a:off x="6187680" y="3405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014880" y="3663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8" name=""/>
            <p:cNvGrpSpPr/>
            <p:nvPr/>
          </p:nvGrpSpPr>
          <p:grpSpPr>
            <a:xfrm>
              <a:off x="1224000" y="4427640"/>
              <a:ext cx="385560" cy="284040"/>
              <a:chOff x="1224000" y="4427640"/>
              <a:chExt cx="385560" cy="284040"/>
            </a:xfrm>
          </p:grpSpPr>
          <p:sp>
            <p:nvSpPr>
              <p:cNvPr id="2149" name=""/>
              <p:cNvSpPr/>
              <p:nvPr/>
            </p:nvSpPr>
            <p:spPr>
              <a:xfrm>
                <a:off x="1396800" y="44276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224000" y="46861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2891520" y="2911320"/>
              <a:ext cx="44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050160" y="2952720"/>
              <a:ext cx="57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28960" y="3117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4" name=""/>
          <p:cNvSpPr/>
          <p:nvPr/>
        </p:nvSpPr>
        <p:spPr>
          <a:xfrm>
            <a:off x="2139840" y="5661000"/>
            <a:ext cx="5203800" cy="87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ukrotny wzrost amplitud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ukrotny wzrost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3246480" y="4753080"/>
                <a:ext cx="1914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7" name=""/>
          <p:cNvGraphicFramePr/>
          <p:nvPr/>
        </p:nvGraphicFramePr>
        <p:xfrm>
          <a:off x="969840" y="1152360"/>
          <a:ext cx="730584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1152360"/>
                    <a:ext cx="7305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1844640" y="4867200"/>
                <a:ext cx="19954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1721160" y="587052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=R4,   R1=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96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2" name=""/>
          <p:cNvGraphicFramePr/>
          <p:nvPr/>
        </p:nvGraphicFramePr>
        <p:xfrm>
          <a:off x="561960" y="1116000"/>
          <a:ext cx="8021520" cy="34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116000"/>
                    <a:ext cx="8021520" cy="34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136600" y="4473720"/>
                <a:ext cx="2448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5" name=""/>
          <p:cNvSpPr/>
          <p:nvPr/>
        </p:nvSpPr>
        <p:spPr>
          <a:xfrm>
            <a:off x="3756240" y="57704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R1=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093000" y="5014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2043000" y="5856120"/>
                <a:ext cx="1444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9" name=""/>
          <p:cNvGraphicFramePr/>
          <p:nvPr/>
        </p:nvGraphicFramePr>
        <p:xfrm>
          <a:off x="500040" y="1289160"/>
          <a:ext cx="802152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289160"/>
                    <a:ext cx="802152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2786040" y="4311720"/>
                <a:ext cx="20001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786040" y="5506920"/>
                <a:ext cx="1231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mostkowy o mocy 1000W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układami PA05 ( f/my Ap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4" name=""/>
          <p:cNvGraphicFramePr/>
          <p:nvPr/>
        </p:nvGraphicFramePr>
        <p:xfrm>
          <a:off x="0" y="1378080"/>
          <a:ext cx="8993160" cy="54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8080"/>
                    <a:ext cx="8993160" cy="54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747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ększanie mocy we wzmacniaczach scalo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7" name=""/>
          <p:cNvGrpSpPr/>
          <p:nvPr/>
        </p:nvGrpSpPr>
        <p:grpSpPr>
          <a:xfrm>
            <a:off x="225000" y="965160"/>
            <a:ext cx="8625240" cy="5743440"/>
            <a:chOff x="225000" y="965160"/>
            <a:chExt cx="8625240" cy="5743440"/>
          </a:xfrm>
        </p:grpSpPr>
        <p:sp>
          <p:nvSpPr>
            <p:cNvPr id="2178" name=""/>
            <p:cNvSpPr/>
            <p:nvPr/>
          </p:nvSpPr>
          <p:spPr>
            <a:xfrm>
              <a:off x="4862520" y="965160"/>
              <a:ext cx="3933720" cy="2806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35080" y="965160"/>
              <a:ext cx="4194000" cy="277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0" name=""/>
            <p:cNvGraphicFramePr/>
            <p:nvPr/>
          </p:nvGraphicFramePr>
          <p:xfrm>
            <a:off x="671400" y="1701720"/>
            <a:ext cx="3294000" cy="199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1400" y="1701720"/>
                      <a:ext cx="3294000" cy="199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2" name=""/>
            <p:cNvSpPr/>
            <p:nvPr/>
          </p:nvSpPr>
          <p:spPr>
            <a:xfrm>
              <a:off x="225000" y="965160"/>
              <a:ext cx="34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67200" y="3887640"/>
              <a:ext cx="3983040" cy="2820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4" name=""/>
            <p:cNvGraphicFramePr/>
            <p:nvPr/>
          </p:nvGraphicFramePr>
          <p:xfrm>
            <a:off x="5473800" y="4433760"/>
            <a:ext cx="3003480" cy="2259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73800" y="4433760"/>
                      <a:ext cx="3003480" cy="22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6" name=""/>
            <p:cNvSpPr/>
            <p:nvPr/>
          </p:nvSpPr>
          <p:spPr>
            <a:xfrm>
              <a:off x="4849560" y="3873600"/>
              <a:ext cx="3583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 - zwiększenie napięć i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35080" y="3886200"/>
              <a:ext cx="4206600" cy="28209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8" name=""/>
            <p:cNvGraphicFramePr/>
            <p:nvPr/>
          </p:nvGraphicFramePr>
          <p:xfrm>
            <a:off x="322200" y="4440240"/>
            <a:ext cx="4097520" cy="2224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2200" y="4440240"/>
                      <a:ext cx="409752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0" name=""/>
            <p:cNvSpPr/>
            <p:nvPr/>
          </p:nvSpPr>
          <p:spPr>
            <a:xfrm>
              <a:off x="293760" y="4014720"/>
              <a:ext cx="390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3 -  zwiększenie napięć wyjściowych (U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m max 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&gt;V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91" name=""/>
            <p:cNvGraphicFramePr/>
            <p:nvPr/>
          </p:nvGraphicFramePr>
          <p:xfrm>
            <a:off x="5189400" y="1460520"/>
            <a:ext cx="3164040" cy="224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9400" y="1460520"/>
                      <a:ext cx="316404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3" name=""/>
            <p:cNvSpPr/>
            <p:nvPr/>
          </p:nvSpPr>
          <p:spPr>
            <a:xfrm>
              <a:off x="4822200" y="965160"/>
              <a:ext cx="337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u wyjściowe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4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843200" y="1109520"/>
            <a:ext cx="6118200" cy="548640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sp>
        <p:nvSpPr>
          <p:cNvPr id="2195" name=""/>
          <p:cNvSpPr/>
          <p:nvPr/>
        </p:nvSpPr>
        <p:spPr>
          <a:xfrm>
            <a:off x="932040" y="266760"/>
            <a:ext cx="695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500W(8ohm) o zwiększonym napięciu wyjściow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układem OPA502 (45V, 10A) (układ 3 z poprzedniej stro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8105760" y="4186080"/>
            <a:ext cx="779400" cy="22273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735360" y="1424160"/>
            <a:ext cx="779400" cy="22269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-720" y="936720"/>
            <a:ext cx="4589640" cy="3058200"/>
            <a:chOff x="-720" y="936720"/>
            <a:chExt cx="4589640" cy="3058200"/>
          </a:xfrm>
        </p:grpSpPr>
        <p:sp>
          <p:nvSpPr>
            <p:cNvPr id="777" name=""/>
            <p:cNvSpPr/>
            <p:nvPr/>
          </p:nvSpPr>
          <p:spPr>
            <a:xfrm>
              <a:off x="3688200" y="1161720"/>
              <a:ext cx="641880" cy="1158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84840" y="1166400"/>
              <a:ext cx="1494360" cy="9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2840" y="1175760"/>
              <a:ext cx="936720" cy="522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4339440" y="2329560"/>
              <a:ext cx="1800" cy="131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8440" y="1171080"/>
              <a:ext cx="4244040" cy="2481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2401920" y="94572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02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1314720" y="950760"/>
              <a:ext cx="4320" cy="268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58440" y="946080"/>
              <a:ext cx="216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62200" y="941400"/>
              <a:ext cx="1800" cy="2704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1941480" y="945720"/>
              <a:ext cx="432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71800" y="946080"/>
              <a:ext cx="216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93840" y="946080"/>
              <a:ext cx="648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06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98440" y="946080"/>
              <a:ext cx="42440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3037320" y="946080"/>
              <a:ext cx="648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55640" y="94608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88200" y="946080"/>
              <a:ext cx="2160" cy="27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96280" y="946080"/>
              <a:ext cx="180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8456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206240" y="946080"/>
              <a:ext cx="648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41320" y="946080"/>
              <a:ext cx="39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23600" y="946080"/>
              <a:ext cx="10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4120" y="1234440"/>
              <a:ext cx="4222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98440" y="1290600"/>
              <a:ext cx="4213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8440" y="136800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8600" y="1443600"/>
              <a:ext cx="4212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9600" y="154404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9600" y="165888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8440" y="181368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8440" y="2022840"/>
              <a:ext cx="421344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8440" y="2449440"/>
              <a:ext cx="4232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4120" y="2508480"/>
              <a:ext cx="422244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8440" y="25833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94120" y="2660400"/>
              <a:ext cx="42444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280" y="2775600"/>
              <a:ext cx="42022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4280" y="2886120"/>
              <a:ext cx="42022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9600" y="3038400"/>
              <a:ext cx="420660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8440" y="32637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8440" y="2393640"/>
              <a:ext cx="423972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688200" y="2123280"/>
              <a:ext cx="655560" cy="1287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679560" y="1703520"/>
              <a:ext cx="644040" cy="1297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23160" y="1171080"/>
              <a:ext cx="356400" cy="192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41320" y="1703520"/>
              <a:ext cx="3960" cy="1949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0840" y="1951920"/>
              <a:ext cx="1243800" cy="776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937800" y="195696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902880" y="2186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35360" y="22827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26080" y="218664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513800" y="2163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80040" y="2186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37800" y="2426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54440" y="2522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45160" y="242604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79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4840" y="936720"/>
              <a:ext cx="6044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3400" y="93672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920" y="1152360"/>
              <a:ext cx="2386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280" y="1089360"/>
              <a:ext cx="360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60" y="10940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4680" y="2320560"/>
              <a:ext cx="1926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5840" y="2320560"/>
              <a:ext cx="232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5840" y="2325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440" y="3547440"/>
              <a:ext cx="26784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3570840"/>
              <a:ext cx="4204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-720" y="35755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914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860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640" y="3653280"/>
              <a:ext cx="232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64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14720" y="3282480"/>
              <a:ext cx="77688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60640" y="1340280"/>
              <a:ext cx="533520" cy="24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60640" y="1359000"/>
              <a:ext cx="549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59200" y="135900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8440" y="946080"/>
              <a:ext cx="1800" cy="24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38520" y="946080"/>
              <a:ext cx="1800" cy="24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3120" y="1166400"/>
              <a:ext cx="338472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79560" y="1368000"/>
              <a:ext cx="659520" cy="121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02880" y="1267560"/>
              <a:ext cx="486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04760" y="1654200"/>
              <a:ext cx="334080" cy="24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02880" y="1262520"/>
              <a:ext cx="54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02520" y="1262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24560" y="1680120"/>
              <a:ext cx="32112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24560" y="1680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94560" y="3303360"/>
              <a:ext cx="7815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07960" y="330336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41920" y="3657600"/>
              <a:ext cx="3564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41200" y="36622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622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568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28200" y="3666960"/>
              <a:ext cx="360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2748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2320" y="3657600"/>
              <a:ext cx="234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3088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507680" y="3653280"/>
              <a:ext cx="234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0768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0160" y="3657600"/>
              <a:ext cx="2278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0260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10040" y="1060920"/>
              <a:ext cx="482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99240" y="1046520"/>
              <a:ext cx="5490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97800" y="1046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3798720" y="43228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4365360" y="3573360"/>
            <a:ext cx="4605120" cy="3046320"/>
            <a:chOff x="4365360" y="3573360"/>
            <a:chExt cx="4605120" cy="3046320"/>
          </a:xfrm>
        </p:grpSpPr>
        <p:sp>
          <p:nvSpPr>
            <p:cNvPr id="879" name=""/>
            <p:cNvSpPr/>
            <p:nvPr/>
          </p:nvSpPr>
          <p:spPr>
            <a:xfrm>
              <a:off x="5928840" y="3797280"/>
              <a:ext cx="2146680" cy="133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523280" y="3811680"/>
              <a:ext cx="532080" cy="266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23040" y="3811680"/>
              <a:ext cx="1752480" cy="107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8730000" y="5414400"/>
              <a:ext cx="2520" cy="852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54800" y="3807000"/>
              <a:ext cx="4268880" cy="2472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772680" y="358236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653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679360" y="3587400"/>
              <a:ext cx="4320" cy="267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24520" y="3582720"/>
              <a:ext cx="180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29360" y="3578040"/>
              <a:ext cx="1800" cy="2693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6307200" y="358236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4112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63160" y="358272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47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54800" y="3582720"/>
              <a:ext cx="4268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411680" y="3582720"/>
              <a:ext cx="396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3072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66520" y="3582720"/>
              <a:ext cx="180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27604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65040" y="3582720"/>
              <a:ext cx="252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587800" y="3582720"/>
              <a:ext cx="432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821440" y="3582720"/>
              <a:ext cx="64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705880" y="3582720"/>
              <a:ext cx="82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650840" y="3870000"/>
              <a:ext cx="4248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4654800" y="3925800"/>
              <a:ext cx="42397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54800" y="400284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77120" y="4078080"/>
              <a:ext cx="4237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65960" y="417816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65960" y="429264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54800" y="444672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54800" y="4655160"/>
              <a:ext cx="423972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54800" y="5079960"/>
              <a:ext cx="4259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650840" y="5139000"/>
              <a:ext cx="42483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54800" y="521352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4650840" y="5289840"/>
              <a:ext cx="42685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670640" y="5404680"/>
              <a:ext cx="422856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70640" y="5514840"/>
              <a:ext cx="4228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665960" y="5666400"/>
              <a:ext cx="42332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654800" y="589104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54800" y="5024520"/>
              <a:ext cx="4264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71200" y="5139000"/>
              <a:ext cx="551880" cy="1132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0" y="4895640"/>
              <a:ext cx="643320" cy="131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75280" y="3797280"/>
              <a:ext cx="1191240" cy="649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821440" y="4337280"/>
              <a:ext cx="6480" cy="1941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89240" y="4594320"/>
              <a:ext cx="1302120" cy="801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265360" y="459432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71760" y="48229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04240" y="491904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95320" y="4822920"/>
              <a:ext cx="32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1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888520" y="47998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59800" y="4822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65000" y="5061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80920" y="51573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474160" y="506160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35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41920" y="3573360"/>
              <a:ext cx="6102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740120" y="357336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90200" y="3788280"/>
              <a:ext cx="2401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65720" y="3745800"/>
              <a:ext cx="3603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65360" y="37508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52480" y="4951800"/>
              <a:ext cx="193680" cy="18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61480" y="4937400"/>
              <a:ext cx="23580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60400" y="4942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74720" y="6173640"/>
              <a:ext cx="27144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85880" y="6183000"/>
              <a:ext cx="4294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85880" y="61880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59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54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35360" y="6279120"/>
              <a:ext cx="235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3536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88000" y="5909760"/>
              <a:ext cx="781200" cy="28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57960" y="4002840"/>
              <a:ext cx="4856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257960" y="3989160"/>
              <a:ext cx="55224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57600" y="3989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12640" y="3729960"/>
              <a:ext cx="536760" cy="2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759440" y="3729960"/>
              <a:ext cx="551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58720" y="37299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654800" y="3582720"/>
              <a:ext cx="2520" cy="247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919360" y="3582720"/>
              <a:ext cx="1800" cy="24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62000" y="3801960"/>
              <a:ext cx="284544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66520" y="4451760"/>
              <a:ext cx="647640" cy="1282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75520" y="4098600"/>
              <a:ext cx="643320" cy="1301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26400" y="4222800"/>
              <a:ext cx="48564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064640" y="4421520"/>
              <a:ext cx="33624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946560" y="4232160"/>
              <a:ext cx="5450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945840" y="4232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73280" y="4461120"/>
              <a:ext cx="327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073280" y="4461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67840" y="5930280"/>
              <a:ext cx="7880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5680" y="593028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14120" y="6283080"/>
              <a:ext cx="35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13760" y="62881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937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932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607960" y="6292800"/>
              <a:ext cx="362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60652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91560" y="6283080"/>
              <a:ext cx="236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9084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73040" y="6279120"/>
              <a:ext cx="2336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7340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276240" y="6283080"/>
              <a:ext cx="228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27192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45160" y="2082960"/>
            <a:ext cx="1316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2" name=""/>
          <p:cNvGraphicFramePr/>
          <p:nvPr/>
        </p:nvGraphicFramePr>
        <p:xfrm>
          <a:off x="316080" y="1093680"/>
          <a:ext cx="8594640" cy="27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" y="1093680"/>
                    <a:ext cx="859464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4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symalne moce strat w układzie OPA501w zależności od czasu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rwania impulsu i temperatury obudow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88080" y="5030640"/>
            <a:ext cx="65268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pełnienia impulsów mocy &lt;=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dzielanie ciepła w tranzystorach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533520" y="1752480"/>
          <a:ext cx="8381880" cy="24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818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elektrotermicz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zystora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54800" y="2176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3587760" y="2521080"/>
            <a:ext cx="798480" cy="145800"/>
            <a:chOff x="3587760" y="2521080"/>
            <a:chExt cx="798480" cy="145800"/>
          </a:xfrm>
        </p:grpSpPr>
        <p:sp>
          <p:nvSpPr>
            <p:cNvPr id="992" name=""/>
            <p:cNvSpPr/>
            <p:nvPr/>
          </p:nvSpPr>
          <p:spPr>
            <a:xfrm>
              <a:off x="3805200" y="2521080"/>
              <a:ext cx="362160" cy="145800"/>
            </a:xfrm>
            <a:prstGeom prst="rect">
              <a:avLst/>
            </a:prstGeom>
            <a:solidFill>
              <a:srgbClr val="ffff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3587760" y="2593800"/>
              <a:ext cx="21744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67360" y="2593800"/>
              <a:ext cx="21888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61880" y="4311720"/>
            <a:ext cx="421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46640" y="3611520"/>
            <a:ext cx="290520" cy="290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17520" y="3325320"/>
            <a:ext cx="290520" cy="945000"/>
            <a:chOff x="317520" y="3325320"/>
            <a:chExt cx="290520" cy="945000"/>
          </a:xfrm>
        </p:grpSpPr>
        <p:sp>
          <p:nvSpPr>
            <p:cNvPr id="998" name=""/>
            <p:cNvSpPr/>
            <p:nvPr/>
          </p:nvSpPr>
          <p:spPr>
            <a:xfrm>
              <a:off x="317520" y="3543480"/>
              <a:ext cx="290520" cy="290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7520" y="3689280"/>
              <a:ext cx="290520" cy="2905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461880" y="3325320"/>
              <a:ext cx="1800" cy="2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61880" y="39798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1880" y="36162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390600" y="3616200"/>
              <a:ext cx="712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1880" y="3616200"/>
              <a:ext cx="730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 flipV="1">
            <a:off x="461880" y="329400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63680" y="3225960"/>
            <a:ext cx="413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419120" y="3154320"/>
            <a:ext cx="798480" cy="144360"/>
            <a:chOff x="1419120" y="3154320"/>
            <a:chExt cx="798480" cy="144360"/>
          </a:xfrm>
        </p:grpSpPr>
        <p:sp>
          <p:nvSpPr>
            <p:cNvPr id="1008" name=""/>
            <p:cNvSpPr/>
            <p:nvPr/>
          </p:nvSpPr>
          <p:spPr>
            <a:xfrm>
              <a:off x="1636560" y="3154320"/>
              <a:ext cx="3636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141912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0001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771120" y="3367080"/>
            <a:ext cx="144720" cy="871560"/>
            <a:chOff x="771120" y="3367080"/>
            <a:chExt cx="144720" cy="871560"/>
          </a:xfrm>
        </p:grpSpPr>
        <p:sp>
          <p:nvSpPr>
            <p:cNvPr id="1012" name=""/>
            <p:cNvSpPr/>
            <p:nvPr/>
          </p:nvSpPr>
          <p:spPr>
            <a:xfrm>
              <a:off x="84312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77112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43120" y="3367080"/>
              <a:ext cx="727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8080" y="3503520"/>
            <a:ext cx="290520" cy="507960"/>
            <a:chOff x="1108080" y="3503520"/>
            <a:chExt cx="290520" cy="507960"/>
          </a:xfrm>
        </p:grpSpPr>
        <p:sp>
          <p:nvSpPr>
            <p:cNvPr id="1016" name=""/>
            <p:cNvSpPr/>
            <p:nvPr/>
          </p:nvSpPr>
          <p:spPr>
            <a:xfrm>
              <a:off x="110808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808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5244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125244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V="1">
            <a:off x="125244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5244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17520" y="4275000"/>
            <a:ext cx="7164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217520" y="3191040"/>
            <a:ext cx="71640" cy="72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2889360" y="3154320"/>
            <a:ext cx="798480" cy="144360"/>
            <a:chOff x="2889360" y="3154320"/>
            <a:chExt cx="798480" cy="144360"/>
          </a:xfrm>
        </p:grpSpPr>
        <p:sp>
          <p:nvSpPr>
            <p:cNvPr id="1025" name=""/>
            <p:cNvSpPr/>
            <p:nvPr/>
          </p:nvSpPr>
          <p:spPr>
            <a:xfrm>
              <a:off x="3106800" y="3154320"/>
              <a:ext cx="3618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8893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68600" y="3225960"/>
              <a:ext cx="21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239560" y="3367080"/>
            <a:ext cx="146520" cy="871560"/>
            <a:chOff x="2239560" y="3367080"/>
            <a:chExt cx="146520" cy="871560"/>
          </a:xfrm>
        </p:grpSpPr>
        <p:sp>
          <p:nvSpPr>
            <p:cNvPr id="1029" name=""/>
            <p:cNvSpPr/>
            <p:nvPr/>
          </p:nvSpPr>
          <p:spPr>
            <a:xfrm>
              <a:off x="231300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223956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1300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2576520" y="3503520"/>
            <a:ext cx="290520" cy="507960"/>
            <a:chOff x="2576520" y="3503520"/>
            <a:chExt cx="290520" cy="507960"/>
          </a:xfrm>
        </p:grpSpPr>
        <p:sp>
          <p:nvSpPr>
            <p:cNvPr id="1033" name=""/>
            <p:cNvSpPr/>
            <p:nvPr/>
          </p:nvSpPr>
          <p:spPr>
            <a:xfrm>
              <a:off x="257652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7652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2088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272088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 flipV="1">
            <a:off x="272088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2088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684520" y="4273560"/>
            <a:ext cx="73080" cy="712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84520" y="318924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4386240" y="3154320"/>
            <a:ext cx="797040" cy="144360"/>
            <a:chOff x="4386240" y="3154320"/>
            <a:chExt cx="797040" cy="144360"/>
          </a:xfrm>
        </p:grpSpPr>
        <p:sp>
          <p:nvSpPr>
            <p:cNvPr id="1042" name=""/>
            <p:cNvSpPr/>
            <p:nvPr/>
          </p:nvSpPr>
          <p:spPr>
            <a:xfrm>
              <a:off x="4603680" y="3154320"/>
              <a:ext cx="36216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3862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9658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736440" y="3367080"/>
            <a:ext cx="145080" cy="871560"/>
            <a:chOff x="3736440" y="3367080"/>
            <a:chExt cx="145080" cy="871560"/>
          </a:xfrm>
        </p:grpSpPr>
        <p:sp>
          <p:nvSpPr>
            <p:cNvPr id="1046" name=""/>
            <p:cNvSpPr/>
            <p:nvPr/>
          </p:nvSpPr>
          <p:spPr>
            <a:xfrm>
              <a:off x="3809880" y="336708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373644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988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4071960" y="3503520"/>
            <a:ext cx="290520" cy="507960"/>
            <a:chOff x="4071960" y="3503520"/>
            <a:chExt cx="290520" cy="507960"/>
          </a:xfrm>
        </p:grpSpPr>
        <p:sp>
          <p:nvSpPr>
            <p:cNvPr id="1050" name=""/>
            <p:cNvSpPr/>
            <p:nvPr/>
          </p:nvSpPr>
          <p:spPr>
            <a:xfrm>
              <a:off x="407196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196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18120" y="379404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4218120" y="350352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 flipV="1">
            <a:off x="4218120" y="3213000"/>
            <a:ext cx="144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18120" y="4011480"/>
            <a:ext cx="144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181400" y="4275000"/>
            <a:ext cx="7308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183200" y="3189240"/>
            <a:ext cx="7272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61880" y="3225600"/>
            <a:ext cx="180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1880" y="423540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-720" y="363708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41760" y="3338640"/>
            <a:ext cx="18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1556280" y="3646440"/>
            <a:ext cx="368280" cy="318240"/>
            <a:chOff x="1556280" y="3646440"/>
            <a:chExt cx="368280" cy="318240"/>
          </a:xfrm>
        </p:grpSpPr>
        <p:sp>
          <p:nvSpPr>
            <p:cNvPr id="1063" name=""/>
            <p:cNvSpPr/>
            <p:nvPr/>
          </p:nvSpPr>
          <p:spPr>
            <a:xfrm>
              <a:off x="1556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95240" y="370512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1605240" y="2825640"/>
            <a:ext cx="545040" cy="327960"/>
            <a:chOff x="1605240" y="2825640"/>
            <a:chExt cx="545040" cy="327960"/>
          </a:xfrm>
        </p:grpSpPr>
        <p:sp>
          <p:nvSpPr>
            <p:cNvPr id="1066" name=""/>
            <p:cNvSpPr/>
            <p:nvPr/>
          </p:nvSpPr>
          <p:spPr>
            <a:xfrm>
              <a:off x="1605240" y="2825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40960" y="2894040"/>
              <a:ext cx="40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-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215720" y="28656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424960" y="3333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2988000" y="3646440"/>
            <a:ext cx="429840" cy="318240"/>
            <a:chOff x="2988000" y="3646440"/>
            <a:chExt cx="429840" cy="318240"/>
          </a:xfrm>
        </p:grpSpPr>
        <p:sp>
          <p:nvSpPr>
            <p:cNvPr id="1071" name=""/>
            <p:cNvSpPr/>
            <p:nvPr/>
          </p:nvSpPr>
          <p:spPr>
            <a:xfrm>
              <a:off x="298800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29120" y="3705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019680" y="2801880"/>
            <a:ext cx="568440" cy="327960"/>
            <a:chOff x="3019680" y="2801880"/>
            <a:chExt cx="568440" cy="327960"/>
          </a:xfrm>
        </p:grpSpPr>
        <p:sp>
          <p:nvSpPr>
            <p:cNvPr id="1074" name=""/>
            <p:cNvSpPr/>
            <p:nvPr/>
          </p:nvSpPr>
          <p:spPr>
            <a:xfrm>
              <a:off x="3019680" y="280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156120" y="2870280"/>
              <a:ext cx="43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-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2479680" y="28843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2720880" y="2593440"/>
            <a:ext cx="1800" cy="68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720880" y="2593800"/>
            <a:ext cx="1047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936240" y="333864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03680" y="4311720"/>
            <a:ext cx="79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262400" y="2593800"/>
            <a:ext cx="1135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5397480" y="2593800"/>
            <a:ext cx="1440" cy="8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116680" y="3225960"/>
            <a:ext cx="285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59320" y="319572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397480" y="3898800"/>
            <a:ext cx="1440" cy="41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397480" y="3219120"/>
            <a:ext cx="1440" cy="3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97480" y="366552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673960" y="365292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43920" y="280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680000" y="287028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90880" y="224460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c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5351400" y="3666960"/>
            <a:ext cx="460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398920" y="3666960"/>
            <a:ext cx="446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74560" y="2871720"/>
            <a:ext cx="21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3080" y="308916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324480" y="2517840"/>
            <a:ext cx="2142000" cy="1809000"/>
            <a:chOff x="6324480" y="2517840"/>
            <a:chExt cx="2142000" cy="1809000"/>
          </a:xfrm>
        </p:grpSpPr>
        <p:sp>
          <p:nvSpPr>
            <p:cNvPr id="1097" name=""/>
            <p:cNvSpPr/>
            <p:nvPr/>
          </p:nvSpPr>
          <p:spPr>
            <a:xfrm>
              <a:off x="6337800" y="2517840"/>
              <a:ext cx="182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j) - złącze (junc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347520" y="3038400"/>
              <a:ext cx="1579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c) - korpus (cas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348960" y="3546360"/>
              <a:ext cx="193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r) - radiator (radiato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24480" y="4067280"/>
              <a:ext cx="214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"/>
                </a:rPr>
                <a:t>(a) - otoczenie (ambien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4475520" y="3646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16280" y="37051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85800" y="5802480"/>
                <a:ext cx="5181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r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4" name=""/>
          <p:cNvSpPr/>
          <p:nvPr/>
        </p:nvSpPr>
        <p:spPr>
          <a:xfrm>
            <a:off x="1626840" y="5033880"/>
            <a:ext cx="2969280" cy="510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emperatura złą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mocy strat tranzysto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temperatury jego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420480" y="1601640"/>
            <a:ext cx="7516440" cy="4720680"/>
            <a:chOff x="420480" y="1601640"/>
            <a:chExt cx="7516440" cy="4720680"/>
          </a:xfrm>
        </p:grpSpPr>
        <p:sp>
          <p:nvSpPr>
            <p:cNvPr id="1107" name=""/>
            <p:cNvSpPr/>
            <p:nvPr/>
          </p:nvSpPr>
          <p:spPr>
            <a:xfrm flipV="1">
              <a:off x="1841400" y="2017080"/>
              <a:ext cx="0" cy="358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12800" y="5370480"/>
              <a:ext cx="63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063880" y="160164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871320" y="480204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841400" y="262728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51080" y="2627280"/>
              <a:ext cx="274284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08080" y="55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13240" y="5446440"/>
              <a:ext cx="1095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=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jmax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118120" y="3693600"/>
              <a:ext cx="0" cy="167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1841040" y="3693960"/>
              <a:ext cx="3276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0480" y="3506760"/>
              <a:ext cx="127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max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(T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51080" y="262728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6200" y="2398680"/>
              <a:ext cx="81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 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499000" y="2199960"/>
                  <a:ext cx="1294920" cy="66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T</m:t>
                          </m:r>
                        </m:num>
                        <m:den>
                          <m:r>
                            <m:t xml:space="preserve">ΔP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j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1" name=""/>
            <p:cNvSpPr/>
            <p:nvPr/>
          </p:nvSpPr>
          <p:spPr>
            <a:xfrm flipH="1">
              <a:off x="4507920" y="2398680"/>
              <a:ext cx="914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5422680" y="2973240"/>
                  <a:ext cx="251424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max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T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c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4:26:55Z</dcterms:created>
  <dc:creator>Agnieszka Kukawczynska</dc:creator>
  <dc:description/>
  <dc:language>en-US</dc:language>
  <cp:lastModifiedBy>MK</cp:lastModifiedBy>
  <dcterms:modified xsi:type="dcterms:W3CDTF">2004-12-08T17:55:26Z</dcterms:modified>
  <cp:revision>61</cp:revision>
  <dc:subject/>
  <dc:title>Wzmacniacze mocy</dc:title>
</cp:coreProperties>
</file>